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10688638" cy="7562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006560" y="685440"/>
            <a:ext cx="484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443A-CB75-4961-9F40-6C640D644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43ED-C5C8-40EB-8D8E-F094F8919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4BEE-20EA-4FB4-8623-5DB1DCE6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73CA-494E-4D52-B0E0-2CC92CB03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09800" y="685800"/>
            <a:ext cx="4841640" cy="3425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8424-9589-4EA8-A923-8EB02CBE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09800" y="685800"/>
            <a:ext cx="4841640" cy="3425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4E8B-DCFE-4AE8-916C-62EEBF73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2221-00DA-4F2B-946C-00ABD4C82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3894F91-9749-49AF-9A90-03F0C8E4E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AC99-3D0F-472B-8D66-2A264EB1E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3884760" y="868536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D9959C1-6BD2-4AD0-B067-C449E6236A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927000" y="685800"/>
            <a:ext cx="5005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784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1E24-62FC-415B-8089-94F5E57C7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E4765EE-AB72-4C01-95A2-2FEBA5688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A72A-9DB2-4758-B747-CC45F9E57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A5161C1-9C75-4B9C-A17B-FD2B765C3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24C-3FAB-49EB-909A-C6400407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29E8080-A292-496B-9A54-63253BDA9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E67B-F3DE-4C46-A1EF-AAEE06C4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25D8E7E-8AE7-4921-AD8D-F8E2AAA4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EF7A-C4A3-489C-8F88-FF2241ED2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AA31663-A1A2-4B27-BCA9-4FB5A602C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930240" y="685800"/>
            <a:ext cx="5005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F405-32F8-4E86-8C58-D10DC08A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B985D4A-06F6-4AA2-9753-7EB310CF6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2DE4-91ED-412A-8002-D176D80F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1968CF3-A9BC-489E-92D6-12B272A17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3B9A-FCD7-46B6-BDA3-9C9FAD094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F15AE28-767E-46BE-B02D-C859DAA9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073E-2E55-449C-AF6A-A82007923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CFF0B50-4382-4D0F-8819-3F5DD400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D7D2-37D9-40E1-BE69-7E2D0D0F3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0092939-E02C-45A0-88BA-F62548729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EF63-5666-49F7-B47F-D9E6DB75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0C406A1-58B4-4D01-B400-A27399BE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6910-CC64-4BA2-B473-91CE43435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1B5DE0B-6D6B-47B3-811A-1C169EA68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FBFE-9CDE-424B-9029-D700EE61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09800" y="685800"/>
            <a:ext cx="4841640" cy="3425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F88A-FA57-446F-92FC-784870FDB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3D71-0CF4-4766-8CC0-7F8AD2F13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20C1-C0C8-4FDA-BF2C-753800621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65A7659-CFDF-4DA3-9287-4FD1F18CE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7928-0927-49E9-BCFE-198040C61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49A44BC-21F5-4B11-86FF-64DA0EF16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A6E9-B5FC-4A4C-8E3F-8FE22DE9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056 GN PPsjabloon pag7"/>
          <p:cNvPicPr/>
          <p:nvPr/>
        </p:nvPicPr>
        <p:blipFill>
          <a:blip r:embed="rId2"/>
          <a:stretch/>
        </p:blipFill>
        <p:spPr>
          <a:xfrm>
            <a:off x="1440" y="1440"/>
            <a:ext cx="1068732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231840" y="6886440"/>
            <a:ext cx="1944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31840" y="5870160"/>
            <a:ext cx="1944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Titel present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5056 GN PPsjabloon"/>
          <p:cNvPicPr/>
          <p:nvPr/>
        </p:nvPicPr>
        <p:blipFill>
          <a:blip r:embed="rId2"/>
          <a:stretch/>
        </p:blipFill>
        <p:spPr>
          <a:xfrm>
            <a:off x="0" y="0"/>
            <a:ext cx="10699920" cy="7569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3040200" y="4573080"/>
            <a:ext cx="748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5056 GN PPsjabloon pag7"/>
          <p:cNvPicPr/>
          <p:nvPr/>
        </p:nvPicPr>
        <p:blipFill>
          <a:blip r:embed="rId2"/>
          <a:stretch/>
        </p:blipFill>
        <p:spPr>
          <a:xfrm>
            <a:off x="1440" y="1440"/>
            <a:ext cx="10687320" cy="7560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lnSpc>
                <a:spcPts val="2999"/>
              </a:lnSpc>
              <a:buClr>
                <a:srgbClr val="ffffff"/>
              </a:buClr>
              <a:buFont typeface="Wingdings" charset="2"/>
              <a:buChar char="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32724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03200" indent="-26028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825560" indent="-261720">
              <a:lnSpc>
                <a:spcPts val="2999"/>
              </a:lnSpc>
              <a:buClr>
                <a:srgbClr val="ffffff"/>
              </a:buClr>
              <a:buFont typeface="Wingdings" charset="2"/>
              <a:buChar char="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346480" indent="-26064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346480" indent="-260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346480" indent="-260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gelderland-zuid.brandweer.nl/upload/625527_340_1144673136562-foto-meldkamer.jpg&amp;imgrefurl=http://www.gelderland-zuid.brandweer.nl/cms/show/id%3D625515&amp;h=237&amp;w=350&amp;sz=14&amp;hl=nl&amp;start=3&amp;tbnid=-DWx2vmjHkSvCM:&amp;tbnh=81&amp;tbnw=120&amp;prev=/images%3Fq%3Dmeldkamer%26gbv%3D2%26hl%3Dn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5"/>
          <p:cNvSpPr/>
          <p:nvPr/>
        </p:nvSpPr>
        <p:spPr>
          <a:xfrm>
            <a:off x="3040200" y="5635800"/>
            <a:ext cx="74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17 februari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StUF Regiegroep - Ut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86200" y="113796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Harmonisatie gegevens en berichtstandaarden StUF-RSGB en NEN3610</a:t>
            </a:r>
            <a:br>
              <a:rPr sz="36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988400" y="6996240"/>
            <a:ext cx="2448000" cy="37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988400" y="5853240"/>
            <a:ext cx="1857240" cy="890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3057480" y="5959440"/>
            <a:ext cx="4359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eter Klaver –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(Marcel Reuvers – Geonov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7988400" y="4781520"/>
            <a:ext cx="1792080" cy="85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4"/>
          <a:stretch/>
        </p:blipFill>
        <p:spPr>
          <a:xfrm>
            <a:off x="7988400" y="4067280"/>
            <a:ext cx="19288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brand_010_kaart_up03"/>
          <p:cNvPicPr/>
          <p:nvPr/>
        </p:nvPicPr>
        <p:blipFill>
          <a:blip r:embed="rId2"/>
          <a:stretch/>
        </p:blipFill>
        <p:spPr>
          <a:xfrm>
            <a:off x="2895480" y="2197080"/>
            <a:ext cx="5329440" cy="5365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2966760" y="828720"/>
            <a:ext cx="24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12-mel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, Wat , W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625527_340_1144673136562-foto-meldkam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59600" y="1138320"/>
            <a:ext cx="31669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07840" y="468360"/>
            <a:ext cx="777708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Op straat, b.v. Brandweer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BAG / GBA/ NHR / BRT / BGT / DINO (TNO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2608200" y="1782720"/>
            <a:ext cx="7201080" cy="5780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79480" y="1117080"/>
            <a:ext cx="7777080" cy="806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oorbeel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679480" y="2052720"/>
            <a:ext cx="7777080" cy="4703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401560" cy="7794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"/>
          <p:cNvSpPr/>
          <p:nvPr/>
        </p:nvSpPr>
        <p:spPr>
          <a:xfrm>
            <a:off x="5345280" y="3465360"/>
            <a:ext cx="57607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en voorbe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79480" y="1117080"/>
            <a:ext cx="7777080" cy="8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nl-NL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679480" y="2052720"/>
            <a:ext cx="7777080" cy="4703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401560" cy="77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486160" y="1023840"/>
            <a:ext cx="8202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lke standaarden zijn onderwerp van harmo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503440" y="2924280"/>
          <a:ext cx="8185320" cy="3902040"/>
        </p:xfrm>
        <a:graphic>
          <a:graphicData uri="http://schemas.openxmlformats.org/drawingml/2006/table">
            <a:tbl>
              <a:tblPr/>
              <a:tblGrid>
                <a:gridCol w="2727360"/>
                <a:gridCol w="2730600"/>
                <a:gridCol w="2727360"/>
              </a:tblGrid>
              <a:tr h="63504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Onderwe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NEN36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Fami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StU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Fami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148500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egev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tandaa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EN3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MKA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TOP10N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MG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MB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S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(BAG, BRP, NHR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KAD, WO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78992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erichte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Functionalite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W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W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tUF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tUF B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2486160" y="781200"/>
            <a:ext cx="70736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Niveaus digitale koppeling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Keten en de positie van NEN3610/RSGB/StU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628560" y="1924200"/>
            <a:ext cx="9353520" cy="5389560"/>
          </a:xfrm>
          <a:prstGeom prst="rect">
            <a:avLst/>
          </a:prstGeom>
          <a:ln w="0">
            <a:noFill/>
          </a:ln>
        </p:spPr>
      </p:pic>
      <p:sp>
        <p:nvSpPr>
          <p:cNvPr id="296" name="Oval 3"/>
          <p:cNvSpPr/>
          <p:nvPr/>
        </p:nvSpPr>
        <p:spPr>
          <a:xfrm>
            <a:off x="7550280" y="5338800"/>
            <a:ext cx="2271600" cy="135252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Logistie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tand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6202440" y="2004840"/>
            <a:ext cx="2273400" cy="7923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amenwerking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fspra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7381800" y="6451560"/>
            <a:ext cx="2270160" cy="111132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Ne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5613480" y="2639880"/>
            <a:ext cx="2273400" cy="952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Kwaliteit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fspr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7211880" y="2560680"/>
            <a:ext cx="2273400" cy="952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Proce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fspr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8"/>
          <p:cNvSpPr/>
          <p:nvPr/>
        </p:nvSpPr>
        <p:spPr>
          <a:xfrm>
            <a:off x="6624720" y="3274920"/>
            <a:ext cx="2273040" cy="1271520"/>
          </a:xfrm>
          <a:prstGeom prst="ellipse">
            <a:avLst/>
          </a:prstGeom>
          <a:solidFill>
            <a:srgbClr val="cc66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3840" bIns="3384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tand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7211880" y="4070520"/>
            <a:ext cx="2105280" cy="1506240"/>
          </a:xfrm>
          <a:prstGeom prst="ellipse">
            <a:avLst/>
          </a:prstGeom>
          <a:solidFill>
            <a:srgbClr val="cc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e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tand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2486160" y="966960"/>
            <a:ext cx="77389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Bev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2486160" y="2567160"/>
            <a:ext cx="8202600" cy="148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De NEN3610 en RSGB/StUF standaarden verschillen qua oorsprong, zienswijze, modelleringswijze, abstractieniveau, metagegevens, interactiepatronen, op inhoud, 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et duurde even voor de projectleden elkaar begr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vestiging van het overlappende werkingsgeb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vestiging van de complementai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armonisatie is noodzakelijk en goed oplo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2486160" y="966960"/>
            <a:ext cx="84312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Harmonisatievisie op lange term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2486160" y="2424240"/>
            <a:ext cx="7738920" cy="15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Ca 40 harmonisatievoorstellen om verschillen weg te werken op informatie- en berichtenmodellen en functio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eenschappelijke overkoepelend informatiemodel voor meer samenhang in het stel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ibliotheek met gemeenschappelijke en herbruikbare XSD (deel)berichtstructuren voor stelsel die gebruikt gaan worden voor berichten (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amenwerking Geonovum, KING en mogelijk andere beheerders van gegevens/berichtstanda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reeform 1"/>
          <p:cNvSpPr/>
          <p:nvPr/>
        </p:nvSpPr>
        <p:spPr>
          <a:xfrm rot="5400000">
            <a:off x="4509000" y="1180080"/>
            <a:ext cx="3151080" cy="8042040"/>
          </a:xfrm>
          <a:custGeom>
            <a:avLst/>
            <a:gdLst>
              <a:gd name="textAreaLeft" fmla="*/ 525240 w 3151080"/>
              <a:gd name="textAreaRight" fmla="*/ 2626200 w 3151080"/>
              <a:gd name="textAreaTop" fmla="*/ 1340280 h 8042040"/>
              <a:gd name="textAreaBottom" fmla="*/ 8042400 h 8042040"/>
            </a:gdLst>
            <a:ahLst/>
            <a:rect l="textAreaLeft" t="textAreaTop" r="textAreaRight" b="textAreaBottom"/>
            <a:pathLst>
              <a:path w="2857500" h="7286625">
                <a:moveTo>
                  <a:pt x="0" y="7286625"/>
                </a:moveTo>
                <a:lnTo>
                  <a:pt x="714375" y="0"/>
                </a:lnTo>
                <a:lnTo>
                  <a:pt x="2143125" y="0"/>
                </a:lnTo>
                <a:lnTo>
                  <a:pt x="2857500" y="728662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"/>
          <p:cNvSpPr/>
          <p:nvPr/>
        </p:nvSpPr>
        <p:spPr>
          <a:xfrm>
            <a:off x="3324240" y="3384720"/>
            <a:ext cx="17280" cy="3414600"/>
          </a:xfrm>
          <a:custGeom>
            <a:avLst/>
            <a:gdLst>
              <a:gd name="textAreaLeft" fmla="*/ 0 w 17280"/>
              <a:gd name="textAreaRight" fmla="*/ 17280 w 17280"/>
              <a:gd name="textAreaTop" fmla="*/ 0 h 3414600"/>
              <a:gd name="textAreaBottom" fmla="*/ 3414960 h 3414600"/>
            </a:gdLst>
            <a:ahLst/>
            <a:rect l="textAreaLeft" t="textAreaTop" r="textAreaRight" b="textAreaBottom"/>
            <a:pathLst>
              <a:path w="45" h="8604">
                <a:moveTo>
                  <a:pt x="44" y="0"/>
                </a:moveTo>
                <a:lnTo>
                  <a:pt x="0" y="8603"/>
                </a:lnTo>
                <a:lnTo>
                  <a:pt x="44" y="0"/>
                </a:lnTo>
              </a:path>
            </a:pathLst>
          </a:custGeom>
          <a:solidFill>
            <a:srgbClr val="00b8ff"/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809720" y="2048040"/>
            <a:ext cx="2532240" cy="15746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tailanaly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uick 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wij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"/>
          <p:cNvSpPr/>
          <p:nvPr/>
        </p:nvSpPr>
        <p:spPr>
          <a:xfrm>
            <a:off x="6018120" y="3463920"/>
            <a:ext cx="6480" cy="3254400"/>
          </a:xfrm>
          <a:custGeom>
            <a:avLst/>
            <a:gdLst>
              <a:gd name="textAreaLeft" fmla="*/ 0 w 6480"/>
              <a:gd name="textAreaRight" fmla="*/ 6840 w 6480"/>
              <a:gd name="textAreaTop" fmla="*/ 0 h 3254400"/>
              <a:gd name="textAreaBottom" fmla="*/ 3254760 h 3254400"/>
            </a:gdLst>
            <a:ahLst/>
            <a:rect l="textAreaLeft" t="textAreaTop" r="textAreaRight" b="textAreaBottom"/>
            <a:pathLst>
              <a:path w="18" h="8199">
                <a:moveTo>
                  <a:pt x="17" y="0"/>
                </a:moveTo>
                <a:lnTo>
                  <a:pt x="0" y="8198"/>
                </a:lnTo>
                <a:lnTo>
                  <a:pt x="17" y="0"/>
                </a:lnTo>
              </a:path>
            </a:pathLst>
          </a:custGeom>
          <a:solidFill>
            <a:srgbClr val="00b8ff"/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670280" y="2112840"/>
            <a:ext cx="2610000" cy="1747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atiewijze modell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delleringswij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sitionering beri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557360" y="3940200"/>
            <a:ext cx="850104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1725480" y="4495680"/>
            <a:ext cx="841536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"/>
          <p:cNvSpPr/>
          <p:nvPr/>
        </p:nvSpPr>
        <p:spPr>
          <a:xfrm flipV="1">
            <a:off x="1471680" y="5670360"/>
            <a:ext cx="863280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8962920" y="3543480"/>
            <a:ext cx="25560" cy="3173400"/>
          </a:xfrm>
          <a:custGeom>
            <a:avLst/>
            <a:gdLst>
              <a:gd name="textAreaLeft" fmla="*/ 0 w 25560"/>
              <a:gd name="textAreaRight" fmla="*/ 25920 w 25560"/>
              <a:gd name="textAreaTop" fmla="*/ 0 h 3173400"/>
              <a:gd name="textAreaBottom" fmla="*/ 3173760 h 3173400"/>
            </a:gdLst>
            <a:ahLst/>
            <a:rect l="textAreaLeft" t="textAreaTop" r="textAreaRight" b="textAreaBottom"/>
            <a:pathLst>
              <a:path w="63" h="7996">
                <a:moveTo>
                  <a:pt x="62" y="0"/>
                </a:moveTo>
                <a:lnTo>
                  <a:pt x="0" y="7995"/>
                </a:lnTo>
                <a:lnTo>
                  <a:pt x="62" y="0"/>
                </a:lnTo>
              </a:path>
            </a:pathLst>
          </a:custGeom>
          <a:solidFill>
            <a:srgbClr val="00b8ff"/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7532640" y="2112840"/>
            <a:ext cx="2922480" cy="14176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richtstand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harmonis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XSD biblioth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3576600" y="1795320"/>
            <a:ext cx="812880" cy="698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27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2"/>
          <p:cNvSpPr/>
          <p:nvPr/>
        </p:nvSpPr>
        <p:spPr>
          <a:xfrm>
            <a:off x="6438960" y="1795320"/>
            <a:ext cx="834840" cy="70992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27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9469440" y="1795320"/>
            <a:ext cx="919080" cy="70992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2700" spc="-1" strike="noStrike">
                <a:solidFill>
                  <a:srgbClr val="002060"/>
                </a:solidFill>
                <a:latin typeface="Arial"/>
              </a:rPr>
              <a:t>3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 flipV="1">
            <a:off x="1725480" y="5208480"/>
            <a:ext cx="83329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 flipV="1">
            <a:off x="1809720" y="5525640"/>
            <a:ext cx="83311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09520" y="5052960"/>
            <a:ext cx="3830760" cy="316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enschappelijke semanti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209520" y="3860640"/>
            <a:ext cx="3830760" cy="316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men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209520" y="4495680"/>
            <a:ext cx="3830760" cy="31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rmonisatie  van standaa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209520" y="5688000"/>
            <a:ext cx="3830760" cy="31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eelde berichtstruc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250920" y="6381720"/>
            <a:ext cx="3828960" cy="316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1"/>
          <p:cNvSpPr/>
          <p:nvPr/>
        </p:nvSpPr>
        <p:spPr>
          <a:xfrm>
            <a:off x="9383760" y="2986200"/>
            <a:ext cx="1087560" cy="7095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2700" spc="-1" strike="noStrike">
                <a:solidFill>
                  <a:srgbClr val="002060"/>
                </a:solidFill>
                <a:latin typeface="Arial"/>
              </a:rPr>
              <a:t>3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>
            <a:off x="8631360" y="1066680"/>
            <a:ext cx="1766880" cy="555840"/>
          </a:xfrm>
          <a:prstGeom prst="wedgeRectCallout">
            <a:avLst>
              <a:gd name="adj1" fmla="val 23004"/>
              <a:gd name="adj2" fmla="val 136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t info.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el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8205840" y="3781440"/>
            <a:ext cx="2104920" cy="557280"/>
          </a:xfrm>
          <a:prstGeom prst="wedgeRectCallout">
            <a:avLst>
              <a:gd name="adj1" fmla="val 29541"/>
              <a:gd name="adj2" fmla="val -87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Z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fo.model stel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2486160" y="146160"/>
            <a:ext cx="58640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armonisatie aanpak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 3 plateaus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t 2 scenario’s voor plateau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2486160" y="966960"/>
            <a:ext cx="77389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Harmon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2486160" y="2495520"/>
            <a:ext cx="7738920" cy="151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388800" indent="-38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9060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39060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formatieharmo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39060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richtmodellen en functio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39060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amenwerking tussen de beheerorganis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57440" y="1155600"/>
            <a:ext cx="7669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In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486160" y="2509920"/>
            <a:ext cx="774036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Noodza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armo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Informatieharmo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Bericht harmo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Plateaugewijze aanp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ervo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Discu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2486160" y="1179360"/>
            <a:ext cx="77976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Voornaamste issues informatieharmo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2486160" y="2638440"/>
            <a:ext cx="7715160" cy="151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tiewijze model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jze van model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mgeving van objecten en attribu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tagegev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ome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is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gevens zonder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dentif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tabLst>
                <a:tab algn="l" pos="0"/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tabLst>
                <a:tab algn="l" pos="0"/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tabLst>
                <a:tab algn="l" pos="0"/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2486160" y="1179360"/>
            <a:ext cx="77976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Voornaamste issues</a:t>
            </a:r>
            <a:br>
              <a:rPr sz="3200"/>
            </a:b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berichtmodellen en functio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919080" y="2363760"/>
            <a:ext cx="9282240" cy="151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85720"/>
                <a:tab algn="l" pos="704880"/>
                <a:tab algn="l" pos="1217520"/>
                <a:tab algn="l" pos="1730520"/>
                <a:tab algn="l" pos="2243160"/>
                <a:tab algn="l" pos="2754360"/>
                <a:tab algn="l" pos="3267000"/>
                <a:tab algn="l" pos="3780000"/>
                <a:tab algn="l" pos="4292640"/>
                <a:tab algn="l" pos="4803840"/>
                <a:tab algn="l" pos="5316480"/>
                <a:tab algn="l" pos="5829480"/>
                <a:tab algn="l" pos="6342120"/>
                <a:tab algn="l" pos="6853320"/>
                <a:tab algn="l" pos="7365960"/>
                <a:tab algn="l" pos="7878600"/>
                <a:tab algn="l" pos="8391600"/>
                <a:tab algn="l" pos="8902800"/>
                <a:tab algn="l" pos="9415440"/>
                <a:tab algn="l" pos="9928080"/>
                <a:tab algn="l" pos="10441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85720"/>
                <a:tab algn="l" pos="704880"/>
                <a:tab algn="l" pos="1217520"/>
                <a:tab algn="l" pos="1730520"/>
                <a:tab algn="l" pos="2243160"/>
                <a:tab algn="l" pos="2754360"/>
                <a:tab algn="l" pos="3267000"/>
                <a:tab algn="l" pos="3780000"/>
                <a:tab algn="l" pos="4292640"/>
                <a:tab algn="l" pos="4803840"/>
                <a:tab algn="l" pos="5316480"/>
                <a:tab algn="l" pos="5829480"/>
                <a:tab algn="l" pos="6342120"/>
                <a:tab algn="l" pos="6853320"/>
                <a:tab algn="l" pos="7365960"/>
                <a:tab algn="l" pos="7878600"/>
                <a:tab algn="l" pos="8391600"/>
                <a:tab algn="l" pos="8902800"/>
                <a:tab algn="l" pos="9415440"/>
                <a:tab algn="l" pos="9928080"/>
                <a:tab algn="l" pos="10441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85720"/>
                <a:tab algn="l" pos="704880"/>
                <a:tab algn="l" pos="1217520"/>
                <a:tab algn="l" pos="1730520"/>
                <a:tab algn="l" pos="2243160"/>
                <a:tab algn="l" pos="2754360"/>
                <a:tab algn="l" pos="3267000"/>
                <a:tab algn="l" pos="3780000"/>
                <a:tab algn="l" pos="4292640"/>
                <a:tab algn="l" pos="4803840"/>
                <a:tab algn="l" pos="5316480"/>
                <a:tab algn="l" pos="5829480"/>
                <a:tab algn="l" pos="6342120"/>
                <a:tab algn="l" pos="6853320"/>
                <a:tab algn="l" pos="7365960"/>
                <a:tab algn="l" pos="7878600"/>
                <a:tab algn="l" pos="8391600"/>
                <a:tab algn="l" pos="8902800"/>
                <a:tab algn="l" pos="9415440"/>
                <a:tab algn="l" pos="9928080"/>
                <a:tab algn="l" pos="10441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4411800"/>
            <a:ext cx="10688760" cy="29937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7182000" y="4884840"/>
            <a:ext cx="1920600" cy="47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7182000" y="5672160"/>
            <a:ext cx="3422520" cy="37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182000" y="6066000"/>
            <a:ext cx="3422520" cy="37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7182000" y="6459480"/>
            <a:ext cx="3422520" cy="37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7182000" y="6853320"/>
            <a:ext cx="3422520" cy="37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7264440" y="6932520"/>
            <a:ext cx="3424320" cy="37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1"/>
          <p:cNvGrpSpPr/>
          <p:nvPr/>
        </p:nvGrpSpPr>
        <p:grpSpPr>
          <a:xfrm>
            <a:off x="7264440" y="4884840"/>
            <a:ext cx="1503000" cy="1553040"/>
            <a:chOff x="7264440" y="4884840"/>
            <a:chExt cx="1503000" cy="1553040"/>
          </a:xfrm>
        </p:grpSpPr>
        <p:sp>
          <p:nvSpPr>
            <p:cNvPr id="351" name="Rectangle 12"/>
            <p:cNvSpPr/>
            <p:nvPr/>
          </p:nvSpPr>
          <p:spPr>
            <a:xfrm>
              <a:off x="7264440" y="4884840"/>
              <a:ext cx="1503000" cy="126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3"/>
            <p:cNvSpPr/>
            <p:nvPr/>
          </p:nvSpPr>
          <p:spPr>
            <a:xfrm>
              <a:off x="7422120" y="5033520"/>
              <a:ext cx="121896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GC 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/TC 2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4"/>
          <p:cNvGrpSpPr/>
          <p:nvPr/>
        </p:nvGrpSpPr>
        <p:grpSpPr>
          <a:xfrm>
            <a:off x="9018720" y="5592600"/>
            <a:ext cx="1503000" cy="1103040"/>
            <a:chOff x="9018720" y="5592600"/>
            <a:chExt cx="1503000" cy="1103040"/>
          </a:xfrm>
        </p:grpSpPr>
        <p:sp>
          <p:nvSpPr>
            <p:cNvPr id="354" name="Rectangle 15"/>
            <p:cNvSpPr/>
            <p:nvPr/>
          </p:nvSpPr>
          <p:spPr>
            <a:xfrm>
              <a:off x="9018720" y="5592600"/>
              <a:ext cx="1503000" cy="1103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6"/>
            <p:cNvSpPr/>
            <p:nvPr/>
          </p:nvSpPr>
          <p:spPr>
            <a:xfrm>
              <a:off x="9176400" y="57218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17"/>
          <p:cNvSpPr/>
          <p:nvPr/>
        </p:nvSpPr>
        <p:spPr>
          <a:xfrm rot="2460000">
            <a:off x="9140400" y="6188040"/>
            <a:ext cx="335160" cy="473040"/>
          </a:xfrm>
          <a:prstGeom prst="downArrow">
            <a:avLst>
              <a:gd name="adj1" fmla="val 50000"/>
              <a:gd name="adj2" fmla="val 49869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8"/>
          <p:cNvSpPr/>
          <p:nvPr/>
        </p:nvSpPr>
        <p:spPr>
          <a:xfrm rot="19020000">
            <a:off x="10061280" y="6187680"/>
            <a:ext cx="333360" cy="473040"/>
          </a:xfrm>
          <a:prstGeom prst="downArrow">
            <a:avLst>
              <a:gd name="adj1" fmla="val 50000"/>
              <a:gd name="adj2" fmla="val 50138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9"/>
          <p:cNvGrpSpPr/>
          <p:nvPr/>
        </p:nvGrpSpPr>
        <p:grpSpPr>
          <a:xfrm>
            <a:off x="9018720" y="6775560"/>
            <a:ext cx="1503000" cy="550440"/>
            <a:chOff x="9018720" y="6775560"/>
            <a:chExt cx="1503000" cy="550440"/>
          </a:xfrm>
        </p:grpSpPr>
        <p:sp>
          <p:nvSpPr>
            <p:cNvPr id="359" name="Rectangle 20"/>
            <p:cNvSpPr/>
            <p:nvPr/>
          </p:nvSpPr>
          <p:spPr>
            <a:xfrm>
              <a:off x="9018720" y="6775560"/>
              <a:ext cx="1503000" cy="55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1"/>
            <p:cNvSpPr/>
            <p:nvPr/>
          </p:nvSpPr>
          <p:spPr>
            <a:xfrm>
              <a:off x="9185760" y="68540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22"/>
          <p:cNvSpPr/>
          <p:nvPr/>
        </p:nvSpPr>
        <p:spPr>
          <a:xfrm>
            <a:off x="7765920" y="4488120"/>
            <a:ext cx="2160720" cy="32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tandaard fami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264440" y="4884840"/>
            <a:ext cx="1601280" cy="1260000"/>
            <a:chOff x="7264440" y="4884840"/>
            <a:chExt cx="1601280" cy="1260000"/>
          </a:xfrm>
        </p:grpSpPr>
        <p:sp>
          <p:nvSpPr>
            <p:cNvPr id="363" name="Rectangle 24"/>
            <p:cNvSpPr/>
            <p:nvPr/>
          </p:nvSpPr>
          <p:spPr>
            <a:xfrm>
              <a:off x="7264440" y="4884840"/>
              <a:ext cx="1503360" cy="1260000"/>
            </a:xfrm>
            <a:prstGeom prst="rect">
              <a:avLst/>
            </a:prstGeom>
            <a:solidFill>
              <a:srgbClr val="00b0f0">
                <a:alpha val="80000"/>
              </a:srgbClr>
            </a:solidFill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5"/>
            <p:cNvSpPr/>
            <p:nvPr/>
          </p:nvSpPr>
          <p:spPr>
            <a:xfrm>
              <a:off x="7366680" y="527832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NEN36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26"/>
          <p:cNvGrpSpPr/>
          <p:nvPr/>
        </p:nvGrpSpPr>
        <p:grpSpPr>
          <a:xfrm>
            <a:off x="9018720" y="6145200"/>
            <a:ext cx="1503000" cy="1180800"/>
            <a:chOff x="9018720" y="6145200"/>
            <a:chExt cx="1503000" cy="1180800"/>
          </a:xfrm>
        </p:grpSpPr>
        <p:sp>
          <p:nvSpPr>
            <p:cNvPr id="366" name="Rectangle 27"/>
            <p:cNvSpPr/>
            <p:nvPr/>
          </p:nvSpPr>
          <p:spPr>
            <a:xfrm>
              <a:off x="9018720" y="6145200"/>
              <a:ext cx="1503000" cy="118080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8"/>
            <p:cNvSpPr/>
            <p:nvPr/>
          </p:nvSpPr>
          <p:spPr>
            <a:xfrm>
              <a:off x="9359640" y="646020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StU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9"/>
          <p:cNvGrpSpPr/>
          <p:nvPr/>
        </p:nvGrpSpPr>
        <p:grpSpPr>
          <a:xfrm>
            <a:off x="7264440" y="6145200"/>
            <a:ext cx="1501200" cy="391680"/>
            <a:chOff x="7264440" y="6145200"/>
            <a:chExt cx="1501200" cy="391680"/>
          </a:xfrm>
        </p:grpSpPr>
        <p:sp>
          <p:nvSpPr>
            <p:cNvPr id="369" name="Rectangle 30"/>
            <p:cNvSpPr/>
            <p:nvPr/>
          </p:nvSpPr>
          <p:spPr>
            <a:xfrm>
              <a:off x="7264440" y="6145200"/>
              <a:ext cx="1501200" cy="391680"/>
            </a:xfrm>
            <a:prstGeom prst="rect">
              <a:avLst/>
            </a:prstGeom>
            <a:solidFill>
              <a:srgbClr val="00b0f0">
                <a:alpha val="30000"/>
              </a:srgbClr>
            </a:solidFill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1"/>
            <p:cNvSpPr/>
            <p:nvPr/>
          </p:nvSpPr>
          <p:spPr>
            <a:xfrm>
              <a:off x="7905600" y="6267240"/>
              <a:ext cx="21456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32"/>
          <p:cNvSpPr/>
          <p:nvPr/>
        </p:nvSpPr>
        <p:spPr>
          <a:xfrm>
            <a:off x="9018720" y="5564880"/>
            <a:ext cx="1468440" cy="838440"/>
          </a:xfrm>
          <a:prstGeom prst="rect">
            <a:avLst/>
          </a:prstGeom>
          <a:solidFill>
            <a:srgbClr val="ffff00">
              <a:alpha val="3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486160" y="2352600"/>
            <a:ext cx="7881840" cy="15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584280" indent="-58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5720"/>
                <a:tab algn="l" pos="1096920"/>
                <a:tab algn="l" pos="1608120"/>
                <a:tab algn="l" pos="2120760"/>
                <a:tab algn="l" pos="2633760"/>
                <a:tab algn="l" pos="3146400"/>
                <a:tab algn="l" pos="3657600"/>
                <a:tab algn="l" pos="4170240"/>
                <a:tab algn="l" pos="4683240"/>
                <a:tab algn="l" pos="5195880"/>
                <a:tab algn="l" pos="5707080"/>
                <a:tab algn="l" pos="6219720"/>
                <a:tab algn="l" pos="6732720"/>
                <a:tab algn="l" pos="7245360"/>
                <a:tab algn="l" pos="7758000"/>
                <a:tab algn="l" pos="8269200"/>
                <a:tab algn="l" pos="8782200"/>
                <a:tab algn="l" pos="9294840"/>
                <a:tab algn="l" pos="9807480"/>
                <a:tab algn="l" pos="10318680"/>
                <a:tab algn="l" pos="10831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verdeling functionaliteit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85720"/>
                <a:tab algn="l" pos="1096920"/>
                <a:tab algn="l" pos="1608120"/>
                <a:tab algn="l" pos="2120760"/>
                <a:tab algn="l" pos="2633760"/>
                <a:tab algn="l" pos="3146400"/>
                <a:tab algn="l" pos="3657600"/>
                <a:tab algn="l" pos="4170240"/>
                <a:tab algn="l" pos="4683240"/>
                <a:tab algn="l" pos="5195880"/>
                <a:tab algn="l" pos="5707080"/>
                <a:tab algn="l" pos="6219720"/>
                <a:tab algn="l" pos="6732720"/>
                <a:tab algn="l" pos="7245360"/>
                <a:tab algn="l" pos="7758000"/>
                <a:tab algn="l" pos="8269200"/>
                <a:tab algn="l" pos="8782200"/>
                <a:tab algn="l" pos="9294840"/>
                <a:tab algn="l" pos="9807480"/>
                <a:tab algn="l" pos="10318680"/>
                <a:tab algn="l" pos="108316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tUF, wijzigingen, asynchroon en bevragingen waar geometrie geen rol spe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85720"/>
                <a:tab algn="l" pos="1096920"/>
                <a:tab algn="l" pos="1608120"/>
                <a:tab algn="l" pos="2120760"/>
                <a:tab algn="l" pos="2633760"/>
                <a:tab algn="l" pos="3146400"/>
                <a:tab algn="l" pos="3657600"/>
                <a:tab algn="l" pos="4170240"/>
                <a:tab algn="l" pos="4683240"/>
                <a:tab algn="l" pos="5195880"/>
                <a:tab algn="l" pos="5707080"/>
                <a:tab algn="l" pos="6219720"/>
                <a:tab algn="l" pos="6732720"/>
                <a:tab algn="l" pos="7245360"/>
                <a:tab algn="l" pos="7758000"/>
                <a:tab algn="l" pos="8269200"/>
                <a:tab algn="l" pos="8782200"/>
                <a:tab algn="l" pos="9294840"/>
                <a:tab algn="l" pos="9807480"/>
                <a:tab algn="l" pos="10318680"/>
                <a:tab algn="l" pos="108316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MS, WFS en GML voor bevraging waar geometrie een rol spe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5720"/>
                <a:tab algn="l" pos="1096920"/>
                <a:tab algn="l" pos="1608120"/>
                <a:tab algn="l" pos="2120760"/>
                <a:tab algn="l" pos="2633760"/>
                <a:tab algn="l" pos="3146400"/>
                <a:tab algn="l" pos="3657600"/>
                <a:tab algn="l" pos="4170240"/>
                <a:tab algn="l" pos="4683240"/>
                <a:tab algn="l" pos="5195880"/>
                <a:tab algn="l" pos="5707080"/>
                <a:tab algn="l" pos="6219720"/>
                <a:tab algn="l" pos="6732720"/>
                <a:tab algn="l" pos="7245360"/>
                <a:tab algn="l" pos="7758000"/>
                <a:tab algn="l" pos="8269200"/>
                <a:tab algn="l" pos="8782200"/>
                <a:tab algn="l" pos="9294840"/>
                <a:tab algn="l" pos="9807480"/>
                <a:tab algn="l" pos="10318680"/>
                <a:tab algn="l" pos="10831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0" y="922320"/>
            <a:ext cx="10688760" cy="66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2557440" y="-147600"/>
            <a:ext cx="8955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Huidige situatie: twee families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die elkaar sinds kort ke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0" y="1398600"/>
            <a:ext cx="8205840" cy="5904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0" y="1709640"/>
            <a:ext cx="7785000" cy="58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2486160" y="138240"/>
            <a:ext cx="580536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Plateau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0" y="2014560"/>
            <a:ext cx="7711920" cy="5548320"/>
          </a:xfrm>
          <a:prstGeom prst="rect">
            <a:avLst/>
          </a:prstGeom>
          <a:ln w="0">
            <a:noFill/>
          </a:ln>
        </p:spPr>
      </p:pic>
      <p:sp>
        <p:nvSpPr>
          <p:cNvPr id="381" name="Ovaal 6"/>
          <p:cNvSpPr/>
          <p:nvPr/>
        </p:nvSpPr>
        <p:spPr>
          <a:xfrm>
            <a:off x="3340080" y="2363760"/>
            <a:ext cx="2338560" cy="18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al 7"/>
          <p:cNvSpPr/>
          <p:nvPr/>
        </p:nvSpPr>
        <p:spPr>
          <a:xfrm>
            <a:off x="3173400" y="5514840"/>
            <a:ext cx="2922480" cy="1575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486160" y="2066760"/>
            <a:ext cx="7762680" cy="151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eview/QA  (extern)  op 3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brengen harmonisati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NEN3610 stelsel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Forum en College Standaardis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StUF Expert en Regiegro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Stelseloverleg BR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Expertgroep Stelselstandaa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Of bijvoorbeeld vanda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Communica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inanciering/conditionering ver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Tekenen Samenwerkingsovereenkom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Verdana"/>
              </a:rPr>
              <a:t>Uitvoeringsplane en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“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Uitvoering binnen het normale releasebeleid van RSGB/StUF en NEN3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2486160" y="1066680"/>
            <a:ext cx="77389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Vervolg (gericht op verduurzam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2557440" y="1241280"/>
            <a:ext cx="76914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iscussie / 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2486160" y="1222200"/>
            <a:ext cx="77770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e-overheid vraagt om standaarden…zoals StUF en NEN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486160" y="2495520"/>
            <a:ext cx="820260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Standaarden voor gegevensuitwisseling zijn noodzakelij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m de ambities van e-overheid te realis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lantgerichte digitale dien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etensamenwe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Eenmalige gegevensuitvraag en meervoudig gebru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Één loketgedachte, multichanneling, uniform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(Ont)kopp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Robuustheid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van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Keuzevrijheid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in ICT oploss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evrijding uit “lock-in” situ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Beheersing informatiehuishouding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meenschappelijk taal over ïnformatie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Dezelfde syntax, eenduidige beteke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Lagere ICT ko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 rot="18360000">
            <a:off x="7102800" y="5333760"/>
            <a:ext cx="3924360" cy="518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INTEROPERABILITE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486160" y="1079640"/>
            <a:ext cx="7762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StUF-fam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986200" y="2567160"/>
            <a:ext cx="6867360" cy="3914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D:\Wil\PPT\NEN EN OPENVGI\lufo.bmp"/>
          <p:cNvPicPr/>
          <p:nvPr/>
        </p:nvPicPr>
        <p:blipFill>
          <a:blip r:embed="rId1"/>
          <a:stretch/>
        </p:blipFill>
        <p:spPr>
          <a:xfrm>
            <a:off x="639720" y="1792440"/>
            <a:ext cx="475632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2486160" y="550800"/>
            <a:ext cx="7299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Voorbeelden van Geo-informatie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697200" y="2681280"/>
            <a:ext cx="368280" cy="376200"/>
          </a:xfrm>
          <a:custGeom>
            <a:avLst/>
            <a:gdLst>
              <a:gd name="textAreaLeft" fmla="*/ 0 w 368280"/>
              <a:gd name="textAreaRight" fmla="*/ 368640 w 3682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5" h="215">
                <a:moveTo>
                  <a:pt x="7" y="215"/>
                </a:moveTo>
                <a:lnTo>
                  <a:pt x="115" y="200"/>
                </a:lnTo>
                <a:lnTo>
                  <a:pt x="207" y="131"/>
                </a:lnTo>
                <a:lnTo>
                  <a:pt x="215" y="15"/>
                </a:lnTo>
                <a:lnTo>
                  <a:pt x="154" y="31"/>
                </a:lnTo>
                <a:lnTo>
                  <a:pt x="138" y="115"/>
                </a:lnTo>
                <a:lnTo>
                  <a:pt x="84" y="0"/>
                </a:lnTo>
                <a:lnTo>
                  <a:pt x="0" y="15"/>
                </a:lnTo>
                <a:lnTo>
                  <a:pt x="7" y="215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>
            <a:off x="3130560" y="3032280"/>
            <a:ext cx="619200" cy="604800"/>
          </a:xfrm>
          <a:custGeom>
            <a:avLst/>
            <a:gdLst>
              <a:gd name="textAreaLeft" fmla="*/ 0 w 619200"/>
              <a:gd name="textAreaRight" fmla="*/ 619200 w 6192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362" h="346">
                <a:moveTo>
                  <a:pt x="0" y="84"/>
                </a:moveTo>
                <a:lnTo>
                  <a:pt x="262" y="0"/>
                </a:lnTo>
                <a:lnTo>
                  <a:pt x="362" y="269"/>
                </a:lnTo>
                <a:lnTo>
                  <a:pt x="108" y="346"/>
                </a:lnTo>
                <a:lnTo>
                  <a:pt x="8" y="215"/>
                </a:lnTo>
                <a:lnTo>
                  <a:pt x="0" y="84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4092480" y="1792440"/>
            <a:ext cx="946080" cy="1265040"/>
          </a:xfrm>
          <a:custGeom>
            <a:avLst/>
            <a:gdLst>
              <a:gd name="textAreaLeft" fmla="*/ 0 w 946080"/>
              <a:gd name="textAreaRight" fmla="*/ 946440 w 946080"/>
              <a:gd name="textAreaTop" fmla="*/ 0 h 1265040"/>
              <a:gd name="textAreaBottom" fmla="*/ 1265040 h 1265040"/>
            </a:gdLst>
            <a:ahLst/>
            <a:rect l="textAreaLeft" t="textAreaTop" r="textAreaRight" b="textAreaBottom"/>
            <a:pathLst>
              <a:path w="553" h="723">
                <a:moveTo>
                  <a:pt x="52" y="95"/>
                </a:moveTo>
                <a:lnTo>
                  <a:pt x="38" y="592"/>
                </a:lnTo>
                <a:lnTo>
                  <a:pt x="0" y="723"/>
                </a:lnTo>
                <a:lnTo>
                  <a:pt x="200" y="615"/>
                </a:lnTo>
                <a:lnTo>
                  <a:pt x="361" y="577"/>
                </a:lnTo>
                <a:lnTo>
                  <a:pt x="423" y="523"/>
                </a:lnTo>
                <a:lnTo>
                  <a:pt x="500" y="446"/>
                </a:lnTo>
                <a:lnTo>
                  <a:pt x="492" y="369"/>
                </a:lnTo>
                <a:lnTo>
                  <a:pt x="523" y="262"/>
                </a:lnTo>
                <a:lnTo>
                  <a:pt x="553" y="215"/>
                </a:lnTo>
                <a:lnTo>
                  <a:pt x="407" y="0"/>
                </a:lnTo>
                <a:lnTo>
                  <a:pt x="161" y="0"/>
                </a:lnTo>
                <a:lnTo>
                  <a:pt x="52" y="95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3551400" y="1792440"/>
            <a:ext cx="645840" cy="1724040"/>
          </a:xfrm>
          <a:custGeom>
            <a:avLst/>
            <a:gdLst>
              <a:gd name="textAreaLeft" fmla="*/ 0 w 645840"/>
              <a:gd name="textAreaRight" fmla="*/ 646200 w 645840"/>
              <a:gd name="textAreaTop" fmla="*/ 0 h 1724040"/>
              <a:gd name="textAreaBottom" fmla="*/ 1724400 h 1724040"/>
            </a:gdLst>
            <a:ahLst/>
            <a:rect l="textAreaLeft" t="textAreaTop" r="textAreaRight" b="textAreaBottom"/>
            <a:pathLst>
              <a:path w="377" h="985">
                <a:moveTo>
                  <a:pt x="316" y="0"/>
                </a:moveTo>
                <a:lnTo>
                  <a:pt x="323" y="285"/>
                </a:lnTo>
                <a:lnTo>
                  <a:pt x="300" y="539"/>
                </a:lnTo>
                <a:lnTo>
                  <a:pt x="277" y="639"/>
                </a:lnTo>
                <a:lnTo>
                  <a:pt x="185" y="715"/>
                </a:lnTo>
                <a:lnTo>
                  <a:pt x="92" y="715"/>
                </a:lnTo>
                <a:lnTo>
                  <a:pt x="92" y="515"/>
                </a:lnTo>
                <a:lnTo>
                  <a:pt x="0" y="531"/>
                </a:lnTo>
                <a:lnTo>
                  <a:pt x="23" y="715"/>
                </a:lnTo>
                <a:lnTo>
                  <a:pt x="123" y="985"/>
                </a:lnTo>
                <a:lnTo>
                  <a:pt x="208" y="931"/>
                </a:lnTo>
                <a:lnTo>
                  <a:pt x="169" y="831"/>
                </a:lnTo>
                <a:lnTo>
                  <a:pt x="308" y="708"/>
                </a:lnTo>
                <a:lnTo>
                  <a:pt x="362" y="615"/>
                </a:lnTo>
                <a:lnTo>
                  <a:pt x="377" y="69"/>
                </a:lnTo>
                <a:lnTo>
                  <a:pt x="369" y="0"/>
                </a:lnTo>
                <a:lnTo>
                  <a:pt x="316" y="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897520" y="2292480"/>
            <a:ext cx="44355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Grootschalige Basiskaart (GBKN</a:t>
            </a:r>
            <a:r>
              <a:rPr b="0" lang="nl-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B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2"/>
          <p:cNvGrpSpPr/>
          <p:nvPr/>
        </p:nvGrpSpPr>
        <p:grpSpPr>
          <a:xfrm>
            <a:off x="608040" y="1996920"/>
            <a:ext cx="1869840" cy="2812680"/>
            <a:chOff x="608040" y="1996920"/>
            <a:chExt cx="1869840" cy="2812680"/>
          </a:xfrm>
        </p:grpSpPr>
        <p:sp>
          <p:nvSpPr>
            <p:cNvPr id="148" name="Freeform 13"/>
            <p:cNvSpPr/>
            <p:nvPr/>
          </p:nvSpPr>
          <p:spPr>
            <a:xfrm>
              <a:off x="871560" y="3544200"/>
              <a:ext cx="618120" cy="673920"/>
            </a:xfrm>
            <a:custGeom>
              <a:avLst/>
              <a:gdLst>
                <a:gd name="textAreaLeft" fmla="*/ 0 w 618120"/>
                <a:gd name="textAreaRight" fmla="*/ 618480 w 6181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361" h="385">
                  <a:moveTo>
                    <a:pt x="0" y="138"/>
                  </a:moveTo>
                  <a:lnTo>
                    <a:pt x="100" y="385"/>
                  </a:lnTo>
                  <a:lnTo>
                    <a:pt x="361" y="285"/>
                  </a:lnTo>
                  <a:lnTo>
                    <a:pt x="276" y="115"/>
                  </a:lnTo>
                  <a:lnTo>
                    <a:pt x="353" y="85"/>
                  </a:lnTo>
                  <a:lnTo>
                    <a:pt x="300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608040" y="1996920"/>
              <a:ext cx="1869840" cy="2812680"/>
            </a:xfrm>
            <a:custGeom>
              <a:avLst/>
              <a:gdLst>
                <a:gd name="textAreaLeft" fmla="*/ 0 w 1869840"/>
                <a:gd name="textAreaRight" fmla="*/ 1870200 w 1869840"/>
                <a:gd name="textAreaTop" fmla="*/ 0 h 2812680"/>
                <a:gd name="textAreaBottom" fmla="*/ 2812680 h 2812680"/>
              </a:gdLst>
              <a:ahLst/>
              <a:rect l="textAreaLeft" t="textAreaTop" r="textAreaRight" b="textAreaBottom"/>
              <a:pathLst>
                <a:path w="1092" h="1607">
                  <a:moveTo>
                    <a:pt x="15" y="0"/>
                  </a:moveTo>
                  <a:lnTo>
                    <a:pt x="292" y="484"/>
                  </a:lnTo>
                  <a:lnTo>
                    <a:pt x="377" y="592"/>
                  </a:lnTo>
                  <a:lnTo>
                    <a:pt x="515" y="846"/>
                  </a:lnTo>
                  <a:lnTo>
                    <a:pt x="723" y="738"/>
                  </a:lnTo>
                  <a:lnTo>
                    <a:pt x="746" y="807"/>
                  </a:lnTo>
                  <a:lnTo>
                    <a:pt x="538" y="869"/>
                  </a:lnTo>
                  <a:lnTo>
                    <a:pt x="607" y="992"/>
                  </a:lnTo>
                  <a:lnTo>
                    <a:pt x="792" y="1199"/>
                  </a:lnTo>
                  <a:lnTo>
                    <a:pt x="1061" y="1084"/>
                  </a:lnTo>
                  <a:lnTo>
                    <a:pt x="1092" y="1169"/>
                  </a:lnTo>
                  <a:lnTo>
                    <a:pt x="930" y="1215"/>
                  </a:lnTo>
                  <a:lnTo>
                    <a:pt x="846" y="1269"/>
                  </a:lnTo>
                  <a:lnTo>
                    <a:pt x="915" y="1361"/>
                  </a:lnTo>
                  <a:lnTo>
                    <a:pt x="838" y="1392"/>
                  </a:lnTo>
                  <a:lnTo>
                    <a:pt x="777" y="1315"/>
                  </a:lnTo>
                  <a:lnTo>
                    <a:pt x="407" y="1515"/>
                  </a:lnTo>
                  <a:lnTo>
                    <a:pt x="15" y="1607"/>
                  </a:lnTo>
                  <a:lnTo>
                    <a:pt x="23" y="1538"/>
                  </a:lnTo>
                  <a:lnTo>
                    <a:pt x="346" y="1461"/>
                  </a:lnTo>
                  <a:lnTo>
                    <a:pt x="730" y="1269"/>
                  </a:lnTo>
                  <a:lnTo>
                    <a:pt x="584" y="1069"/>
                  </a:lnTo>
                  <a:lnTo>
                    <a:pt x="407" y="807"/>
                  </a:lnTo>
                  <a:lnTo>
                    <a:pt x="15" y="992"/>
                  </a:lnTo>
                  <a:lnTo>
                    <a:pt x="7" y="907"/>
                  </a:lnTo>
                  <a:lnTo>
                    <a:pt x="361" y="746"/>
                  </a:lnTo>
                  <a:lnTo>
                    <a:pt x="169" y="476"/>
                  </a:lnTo>
                  <a:lnTo>
                    <a:pt x="0" y="16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1529280" y="3974760"/>
              <a:ext cx="316800" cy="3096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1846080" y="3745440"/>
              <a:ext cx="316800" cy="3096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1556640" y="3462120"/>
              <a:ext cx="316440" cy="3096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1373400" y="3123720"/>
              <a:ext cx="316440" cy="30996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86680" y="3069720"/>
              <a:ext cx="316800" cy="3096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1099080" y="4200480"/>
              <a:ext cx="316800" cy="30996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1323720" y="4093560"/>
              <a:ext cx="316800" cy="30996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71560" y="2211840"/>
              <a:ext cx="763560" cy="6861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686160"/>
                <a:gd name="textAreaBottom" fmla="*/ 686160 h 686160"/>
              </a:gdLst>
              <a:ahLst/>
              <a:rect l="textAreaLeft" t="textAreaTop" r="textAreaRight" b="textAreaBottom"/>
              <a:pathLst>
                <a:path w="446" h="392">
                  <a:moveTo>
                    <a:pt x="0" y="107"/>
                  </a:moveTo>
                  <a:lnTo>
                    <a:pt x="246" y="0"/>
                  </a:lnTo>
                  <a:lnTo>
                    <a:pt x="292" y="92"/>
                  </a:lnTo>
                  <a:lnTo>
                    <a:pt x="215" y="123"/>
                  </a:lnTo>
                  <a:lnTo>
                    <a:pt x="246" y="200"/>
                  </a:lnTo>
                  <a:lnTo>
                    <a:pt x="292" y="169"/>
                  </a:lnTo>
                  <a:lnTo>
                    <a:pt x="315" y="215"/>
                  </a:lnTo>
                  <a:lnTo>
                    <a:pt x="400" y="176"/>
                  </a:lnTo>
                  <a:lnTo>
                    <a:pt x="446" y="253"/>
                  </a:lnTo>
                  <a:lnTo>
                    <a:pt x="176" y="392"/>
                  </a:lnTo>
                  <a:lnTo>
                    <a:pt x="138" y="346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23"/>
            <p:cNvSpPr/>
            <p:nvPr/>
          </p:nvSpPr>
          <p:spPr>
            <a:xfrm>
              <a:off x="1272600" y="2917440"/>
              <a:ext cx="164160" cy="167760"/>
            </a:xfrm>
            <a:prstGeom prst="diamond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4"/>
            <p:cNvSpPr/>
            <p:nvPr/>
          </p:nvSpPr>
          <p:spPr>
            <a:xfrm>
              <a:off x="1114560" y="3468600"/>
              <a:ext cx="164160" cy="168120"/>
            </a:xfrm>
            <a:prstGeom prst="diamond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5"/>
            <p:cNvSpPr/>
            <p:nvPr/>
          </p:nvSpPr>
          <p:spPr>
            <a:xfrm rot="4429800">
              <a:off x="909720" y="3148200"/>
              <a:ext cx="252000" cy="164520"/>
            </a:xfrm>
            <a:prstGeom prst="lightningBol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6"/>
            <p:cNvSpPr/>
            <p:nvPr/>
          </p:nvSpPr>
          <p:spPr>
            <a:xfrm>
              <a:off x="886680" y="4228560"/>
              <a:ext cx="164520" cy="167760"/>
            </a:xfrm>
            <a:custGeom>
              <a:avLst/>
              <a:gdLst>
                <a:gd name="textAreaLeft" fmla="*/ 19080 w 164520"/>
                <a:gd name="textAreaRight" fmla="*/ 145440 w 164520"/>
                <a:gd name="textAreaTop" fmla="*/ 19080 h 167760"/>
                <a:gd name="textAreaBottom" fmla="*/ 148680 h 167760"/>
              </a:gdLst>
              <a:ahLst/>
              <a:rect l="textAreaLeft" t="textAreaTop" r="textAreaRight" b="textAreaBottom"/>
              <a:pathLst>
                <a:path w="21600" h="22024">
                  <a:moveTo>
                    <a:pt x="3600" y="0"/>
                  </a:moveTo>
                  <a:arcTo wR="3600" hR="3600" stAng="0" swAng="5400000"/>
                  <a:lnTo>
                    <a:pt x="0" y="18424"/>
                  </a:lnTo>
                  <a:arcTo wR="3600" hR="3600" stAng="16200000" swAng="5400000"/>
                  <a:lnTo>
                    <a:pt x="18000" y="22024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7"/>
            <p:cNvSpPr/>
            <p:nvPr/>
          </p:nvSpPr>
          <p:spPr>
            <a:xfrm>
              <a:off x="1888920" y="3554640"/>
              <a:ext cx="164160" cy="168120"/>
            </a:xfrm>
            <a:custGeom>
              <a:avLst/>
              <a:gdLst>
                <a:gd name="textAreaLeft" fmla="*/ 19080 w 164160"/>
                <a:gd name="textAreaRight" fmla="*/ 145080 w 164160"/>
                <a:gd name="textAreaTop" fmla="*/ 19080 h 168120"/>
                <a:gd name="textAreaBottom" fmla="*/ 149040 h 168120"/>
              </a:gdLst>
              <a:ahLst/>
              <a:rect l="textAreaLeft" t="textAreaTop" r="textAreaRight" b="textAreaBottom"/>
              <a:pathLst>
                <a:path w="21600" h="22120">
                  <a:moveTo>
                    <a:pt x="3600" y="0"/>
                  </a:moveTo>
                  <a:arcTo wR="3600" hR="3600" stAng="0" swAng="5400000"/>
                  <a:lnTo>
                    <a:pt x="0" y="18520"/>
                  </a:lnTo>
                  <a:arcTo wR="3600" hR="3600" stAng="16200000" swAng="5400000"/>
                  <a:lnTo>
                    <a:pt x="18000" y="2212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"/>
            <p:cNvSpPr/>
            <p:nvPr/>
          </p:nvSpPr>
          <p:spPr>
            <a:xfrm>
              <a:off x="847440" y="2113920"/>
              <a:ext cx="164160" cy="167760"/>
            </a:xfrm>
            <a:custGeom>
              <a:avLst/>
              <a:gdLst>
                <a:gd name="textAreaLeft" fmla="*/ 19080 w 164160"/>
                <a:gd name="textAreaRight" fmla="*/ 145080 w 164160"/>
                <a:gd name="textAreaTop" fmla="*/ 19080 h 167760"/>
                <a:gd name="textAreaBottom" fmla="*/ 148680 h 167760"/>
              </a:gdLst>
              <a:ahLst/>
              <a:rect l="textAreaLeft" t="textAreaTop" r="textAreaRight" b="textAreaBottom"/>
              <a:pathLst>
                <a:path w="21600" h="22073">
                  <a:moveTo>
                    <a:pt x="3600" y="0"/>
                  </a:moveTo>
                  <a:arcTo wR="3600" hR="3600" stAng="0" swAng="5400000"/>
                  <a:lnTo>
                    <a:pt x="0" y="18473"/>
                  </a:lnTo>
                  <a:arcTo wR="3600" hR="3600" stAng="16200000" swAng="5400000"/>
                  <a:lnTo>
                    <a:pt x="18000" y="22073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"/>
            <p:cNvSpPr/>
            <p:nvPr/>
          </p:nvSpPr>
          <p:spPr>
            <a:xfrm rot="19900800">
              <a:off x="1251360" y="4215960"/>
              <a:ext cx="104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HOOFDSTRA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0"/>
            <p:cNvSpPr/>
            <p:nvPr/>
          </p:nvSpPr>
          <p:spPr>
            <a:xfrm rot="3495600">
              <a:off x="619920" y="2758680"/>
              <a:ext cx="822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EIKENLA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1"/>
            <p:cNvSpPr/>
            <p:nvPr/>
          </p:nvSpPr>
          <p:spPr>
            <a:xfrm>
              <a:off x="1117440" y="382248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2"/>
            <p:cNvSpPr/>
            <p:nvPr/>
          </p:nvSpPr>
          <p:spPr>
            <a:xfrm>
              <a:off x="893160" y="234144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3"/>
            <p:cNvSpPr/>
            <p:nvPr/>
          </p:nvSpPr>
          <p:spPr>
            <a:xfrm>
              <a:off x="1054440" y="254808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4"/>
            <p:cNvSpPr/>
            <p:nvPr/>
          </p:nvSpPr>
          <p:spPr>
            <a:xfrm>
              <a:off x="1343520" y="313956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5"/>
            <p:cNvSpPr/>
            <p:nvPr/>
          </p:nvSpPr>
          <p:spPr>
            <a:xfrm>
              <a:off x="1540440" y="348984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6"/>
            <p:cNvSpPr/>
            <p:nvPr/>
          </p:nvSpPr>
          <p:spPr>
            <a:xfrm>
              <a:off x="1829880" y="377316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7"/>
            <p:cNvSpPr/>
            <p:nvPr/>
          </p:nvSpPr>
          <p:spPr>
            <a:xfrm>
              <a:off x="1527120" y="401652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8"/>
            <p:cNvSpPr/>
            <p:nvPr/>
          </p:nvSpPr>
          <p:spPr>
            <a:xfrm>
              <a:off x="1290600" y="412524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9"/>
            <p:cNvSpPr/>
            <p:nvPr/>
          </p:nvSpPr>
          <p:spPr>
            <a:xfrm>
              <a:off x="1077840" y="424800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40"/>
          <p:cNvSpPr/>
          <p:nvPr/>
        </p:nvSpPr>
        <p:spPr>
          <a:xfrm>
            <a:off x="5768640" y="2711520"/>
            <a:ext cx="25488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Rioolbeheer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1"/>
          <p:cNvGrpSpPr/>
          <p:nvPr/>
        </p:nvGrpSpPr>
        <p:grpSpPr>
          <a:xfrm>
            <a:off x="2759040" y="2384280"/>
            <a:ext cx="2710440" cy="2562840"/>
            <a:chOff x="2759040" y="2384280"/>
            <a:chExt cx="2710440" cy="2562840"/>
          </a:xfrm>
        </p:grpSpPr>
        <p:sp>
          <p:nvSpPr>
            <p:cNvPr id="177" name="Freeform 42"/>
            <p:cNvSpPr/>
            <p:nvPr/>
          </p:nvSpPr>
          <p:spPr>
            <a:xfrm>
              <a:off x="3900960" y="2695680"/>
              <a:ext cx="1474560" cy="183060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861" h="1046">
                  <a:moveTo>
                    <a:pt x="631" y="0"/>
                  </a:moveTo>
                  <a:lnTo>
                    <a:pt x="646" y="116"/>
                  </a:lnTo>
                  <a:lnTo>
                    <a:pt x="638" y="216"/>
                  </a:lnTo>
                  <a:lnTo>
                    <a:pt x="615" y="277"/>
                  </a:lnTo>
                  <a:lnTo>
                    <a:pt x="492" y="354"/>
                  </a:lnTo>
                  <a:lnTo>
                    <a:pt x="215" y="454"/>
                  </a:lnTo>
                  <a:lnTo>
                    <a:pt x="115" y="500"/>
                  </a:lnTo>
                  <a:lnTo>
                    <a:pt x="0" y="554"/>
                  </a:lnTo>
                  <a:lnTo>
                    <a:pt x="84" y="793"/>
                  </a:lnTo>
                  <a:lnTo>
                    <a:pt x="138" y="908"/>
                  </a:lnTo>
                  <a:lnTo>
                    <a:pt x="169" y="954"/>
                  </a:lnTo>
                  <a:lnTo>
                    <a:pt x="292" y="993"/>
                  </a:lnTo>
                  <a:lnTo>
                    <a:pt x="361" y="1039"/>
                  </a:lnTo>
                  <a:lnTo>
                    <a:pt x="415" y="1046"/>
                  </a:lnTo>
                  <a:lnTo>
                    <a:pt x="761" y="1039"/>
                  </a:lnTo>
                  <a:lnTo>
                    <a:pt x="861" y="1031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3"/>
            <p:cNvSpPr/>
            <p:nvPr/>
          </p:nvSpPr>
          <p:spPr>
            <a:xfrm>
              <a:off x="2846160" y="2683440"/>
              <a:ext cx="1068480" cy="109008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1090080"/>
                <a:gd name="textAreaBottom" fmla="*/ 1090440 h 1090080"/>
              </a:gdLst>
              <a:ahLst/>
              <a:rect l="textAreaLeft" t="textAreaTop" r="textAreaRight" b="textAreaBottom"/>
              <a:pathLst>
                <a:path w="624" h="623">
                  <a:moveTo>
                    <a:pt x="624" y="561"/>
                  </a:moveTo>
                  <a:lnTo>
                    <a:pt x="200" y="623"/>
                  </a:lnTo>
                  <a:lnTo>
                    <a:pt x="147" y="469"/>
                  </a:lnTo>
                  <a:lnTo>
                    <a:pt x="77" y="2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4"/>
            <p:cNvSpPr/>
            <p:nvPr/>
          </p:nvSpPr>
          <p:spPr>
            <a:xfrm>
              <a:off x="3255480" y="4365360"/>
              <a:ext cx="934920" cy="4582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546" h="262">
                  <a:moveTo>
                    <a:pt x="546" y="0"/>
                  </a:moveTo>
                  <a:lnTo>
                    <a:pt x="285" y="100"/>
                  </a:lnTo>
                  <a:lnTo>
                    <a:pt x="0" y="262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5"/>
            <p:cNvSpPr/>
            <p:nvPr/>
          </p:nvSpPr>
          <p:spPr>
            <a:xfrm>
              <a:off x="4459680" y="4432320"/>
              <a:ext cx="16416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46"/>
            <p:cNvSpPr/>
            <p:nvPr/>
          </p:nvSpPr>
          <p:spPr>
            <a:xfrm>
              <a:off x="3825720" y="3583080"/>
              <a:ext cx="16452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7"/>
            <p:cNvSpPr/>
            <p:nvPr/>
          </p:nvSpPr>
          <p:spPr>
            <a:xfrm>
              <a:off x="4075920" y="4283280"/>
              <a:ext cx="16452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8"/>
            <p:cNvSpPr/>
            <p:nvPr/>
          </p:nvSpPr>
          <p:spPr>
            <a:xfrm>
              <a:off x="4893120" y="2627280"/>
              <a:ext cx="16416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49"/>
            <p:cNvSpPr/>
            <p:nvPr/>
          </p:nvSpPr>
          <p:spPr>
            <a:xfrm>
              <a:off x="2759040" y="2599560"/>
              <a:ext cx="16416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50"/>
            <p:cNvSpPr/>
            <p:nvPr/>
          </p:nvSpPr>
          <p:spPr>
            <a:xfrm>
              <a:off x="3195720" y="4741560"/>
              <a:ext cx="16416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3308760" y="4685760"/>
              <a:ext cx="56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036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2"/>
            <p:cNvSpPr/>
            <p:nvPr/>
          </p:nvSpPr>
          <p:spPr>
            <a:xfrm>
              <a:off x="4150440" y="4066200"/>
              <a:ext cx="64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333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53"/>
            <p:cNvSpPr/>
            <p:nvPr/>
          </p:nvSpPr>
          <p:spPr>
            <a:xfrm>
              <a:off x="4558320" y="4228920"/>
              <a:ext cx="64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0290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4"/>
            <p:cNvSpPr/>
            <p:nvPr/>
          </p:nvSpPr>
          <p:spPr>
            <a:xfrm>
              <a:off x="3937320" y="3581280"/>
              <a:ext cx="56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398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5"/>
            <p:cNvSpPr/>
            <p:nvPr/>
          </p:nvSpPr>
          <p:spPr>
            <a:xfrm>
              <a:off x="4899960" y="2384280"/>
              <a:ext cx="56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03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56"/>
            <p:cNvSpPr/>
            <p:nvPr/>
          </p:nvSpPr>
          <p:spPr>
            <a:xfrm>
              <a:off x="2856960" y="2384280"/>
              <a:ext cx="56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067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57"/>
          <p:cNvSpPr/>
          <p:nvPr/>
        </p:nvSpPr>
        <p:spPr>
          <a:xfrm>
            <a:off x="5769000" y="3132000"/>
            <a:ext cx="2681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Groenbeheer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58"/>
          <p:cNvSpPr/>
          <p:nvPr/>
        </p:nvSpPr>
        <p:spPr>
          <a:xfrm>
            <a:off x="843120" y="5281560"/>
            <a:ext cx="1741320" cy="118584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16" h="677">
                <a:moveTo>
                  <a:pt x="0" y="492"/>
                </a:moveTo>
                <a:lnTo>
                  <a:pt x="316" y="354"/>
                </a:lnTo>
                <a:lnTo>
                  <a:pt x="808" y="93"/>
                </a:lnTo>
                <a:lnTo>
                  <a:pt x="969" y="0"/>
                </a:lnTo>
                <a:lnTo>
                  <a:pt x="1016" y="69"/>
                </a:lnTo>
                <a:lnTo>
                  <a:pt x="800" y="239"/>
                </a:lnTo>
                <a:lnTo>
                  <a:pt x="546" y="416"/>
                </a:lnTo>
                <a:lnTo>
                  <a:pt x="69" y="677"/>
                </a:lnTo>
                <a:lnTo>
                  <a:pt x="0" y="492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9"/>
          <p:cNvSpPr/>
          <p:nvPr/>
        </p:nvSpPr>
        <p:spPr>
          <a:xfrm>
            <a:off x="1965240" y="6143760"/>
            <a:ext cx="696960" cy="564840"/>
          </a:xfrm>
          <a:custGeom>
            <a:avLst/>
            <a:gdLst>
              <a:gd name="textAreaLeft" fmla="*/ 0 w 696960"/>
              <a:gd name="textAreaRight" fmla="*/ 696960 w 696960"/>
              <a:gd name="textAreaTop" fmla="*/ 0 h 564840"/>
              <a:gd name="textAreaBottom" fmla="*/ 565200 h 564840"/>
            </a:gdLst>
            <a:ahLst/>
            <a:rect l="textAreaLeft" t="textAreaTop" r="textAreaRight" b="textAreaBottom"/>
            <a:pathLst>
              <a:path w="408" h="323">
                <a:moveTo>
                  <a:pt x="0" y="162"/>
                </a:moveTo>
                <a:lnTo>
                  <a:pt x="300" y="0"/>
                </a:lnTo>
                <a:lnTo>
                  <a:pt x="354" y="31"/>
                </a:lnTo>
                <a:lnTo>
                  <a:pt x="408" y="154"/>
                </a:lnTo>
                <a:lnTo>
                  <a:pt x="192" y="277"/>
                </a:lnTo>
                <a:lnTo>
                  <a:pt x="77" y="323"/>
                </a:lnTo>
                <a:lnTo>
                  <a:pt x="0" y="162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0"/>
          <p:cNvSpPr/>
          <p:nvPr/>
        </p:nvSpPr>
        <p:spPr>
          <a:xfrm>
            <a:off x="4861080" y="2994120"/>
            <a:ext cx="436320" cy="766800"/>
          </a:xfrm>
          <a:custGeom>
            <a:avLst/>
            <a:gdLst>
              <a:gd name="textAreaLeft" fmla="*/ 0 w 436320"/>
              <a:gd name="textAreaRight" fmla="*/ 436680 w 43632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55" h="438">
                <a:moveTo>
                  <a:pt x="109" y="438"/>
                </a:moveTo>
                <a:lnTo>
                  <a:pt x="0" y="173"/>
                </a:lnTo>
                <a:lnTo>
                  <a:pt x="52" y="140"/>
                </a:lnTo>
                <a:lnTo>
                  <a:pt x="117" y="38"/>
                </a:lnTo>
                <a:lnTo>
                  <a:pt x="248" y="0"/>
                </a:lnTo>
                <a:lnTo>
                  <a:pt x="255" y="392"/>
                </a:lnTo>
                <a:lnTo>
                  <a:pt x="109" y="438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5761080" y="3552840"/>
            <a:ext cx="2494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egbeheer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2"/>
          <p:cNvSpPr/>
          <p:nvPr/>
        </p:nvSpPr>
        <p:spPr>
          <a:xfrm>
            <a:off x="2452680" y="4164120"/>
            <a:ext cx="1606680" cy="102240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938" h="584">
                <a:moveTo>
                  <a:pt x="0" y="554"/>
                </a:moveTo>
                <a:lnTo>
                  <a:pt x="61" y="446"/>
                </a:lnTo>
                <a:lnTo>
                  <a:pt x="192" y="369"/>
                </a:lnTo>
                <a:lnTo>
                  <a:pt x="353" y="315"/>
                </a:lnTo>
                <a:lnTo>
                  <a:pt x="353" y="238"/>
                </a:lnTo>
                <a:lnTo>
                  <a:pt x="892" y="0"/>
                </a:lnTo>
                <a:lnTo>
                  <a:pt x="938" y="131"/>
                </a:lnTo>
                <a:lnTo>
                  <a:pt x="723" y="207"/>
                </a:lnTo>
                <a:lnTo>
                  <a:pt x="507" y="331"/>
                </a:lnTo>
                <a:lnTo>
                  <a:pt x="438" y="323"/>
                </a:lnTo>
                <a:lnTo>
                  <a:pt x="284" y="400"/>
                </a:lnTo>
                <a:lnTo>
                  <a:pt x="184" y="492"/>
                </a:lnTo>
                <a:lnTo>
                  <a:pt x="77" y="584"/>
                </a:lnTo>
                <a:lnTo>
                  <a:pt x="0" y="55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3"/>
          <p:cNvSpPr/>
          <p:nvPr/>
        </p:nvSpPr>
        <p:spPr>
          <a:xfrm>
            <a:off x="639720" y="5133960"/>
            <a:ext cx="1930320" cy="117144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1171440"/>
              <a:gd name="textAreaBottom" fmla="*/ 1171800 h 1171440"/>
            </a:gdLst>
            <a:ahLst/>
            <a:rect l="textAreaLeft" t="textAreaTop" r="textAreaRight" b="textAreaBottom"/>
            <a:pathLst>
              <a:path w="1127" h="669">
                <a:moveTo>
                  <a:pt x="0" y="539"/>
                </a:moveTo>
                <a:lnTo>
                  <a:pt x="427" y="353"/>
                </a:lnTo>
                <a:lnTo>
                  <a:pt x="850" y="107"/>
                </a:lnTo>
                <a:lnTo>
                  <a:pt x="1058" y="0"/>
                </a:lnTo>
                <a:lnTo>
                  <a:pt x="1127" y="30"/>
                </a:lnTo>
                <a:lnTo>
                  <a:pt x="1104" y="77"/>
                </a:lnTo>
                <a:lnTo>
                  <a:pt x="558" y="369"/>
                </a:lnTo>
                <a:lnTo>
                  <a:pt x="119" y="576"/>
                </a:lnTo>
                <a:lnTo>
                  <a:pt x="4" y="669"/>
                </a:lnTo>
                <a:lnTo>
                  <a:pt x="0" y="53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64"/>
          <p:cNvSpPr/>
          <p:nvPr/>
        </p:nvSpPr>
        <p:spPr>
          <a:xfrm>
            <a:off x="2859120" y="4890960"/>
            <a:ext cx="1266840" cy="2505240"/>
          </a:xfrm>
          <a:custGeom>
            <a:avLst/>
            <a:gdLst>
              <a:gd name="textAreaLeft" fmla="*/ 0 w 1266840"/>
              <a:gd name="textAreaRight" fmla="*/ 1266840 w 1266840"/>
              <a:gd name="textAreaTop" fmla="*/ 0 h 2505240"/>
              <a:gd name="textAreaBottom" fmla="*/ 2505600 h 2505240"/>
            </a:gdLst>
            <a:ahLst/>
            <a:rect l="textAreaLeft" t="textAreaTop" r="textAreaRight" b="textAreaBottom"/>
            <a:pathLst>
              <a:path w="739" h="1431">
                <a:moveTo>
                  <a:pt x="0" y="31"/>
                </a:moveTo>
                <a:lnTo>
                  <a:pt x="469" y="992"/>
                </a:lnTo>
                <a:lnTo>
                  <a:pt x="654" y="1431"/>
                </a:lnTo>
                <a:lnTo>
                  <a:pt x="739" y="1431"/>
                </a:lnTo>
                <a:lnTo>
                  <a:pt x="454" y="831"/>
                </a:lnTo>
                <a:lnTo>
                  <a:pt x="215" y="323"/>
                </a:lnTo>
                <a:lnTo>
                  <a:pt x="39" y="0"/>
                </a:lnTo>
                <a:lnTo>
                  <a:pt x="0" y="3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5742360" y="3971880"/>
            <a:ext cx="1902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ilieu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6"/>
          <p:cNvSpPr/>
          <p:nvPr/>
        </p:nvSpPr>
        <p:spPr>
          <a:xfrm>
            <a:off x="639720" y="4649760"/>
            <a:ext cx="4243320" cy="2754360"/>
          </a:xfrm>
          <a:custGeom>
            <a:avLst/>
            <a:gdLst>
              <a:gd name="textAreaLeft" fmla="*/ 0 w 4243320"/>
              <a:gd name="textAreaRight" fmla="*/ 4243680 w 424332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77" h="1573">
                <a:moveTo>
                  <a:pt x="0" y="243"/>
                </a:moveTo>
                <a:cubicBezTo>
                  <a:pt x="54" y="224"/>
                  <a:pt x="30" y="232"/>
                  <a:pt x="69" y="220"/>
                </a:cubicBezTo>
                <a:cubicBezTo>
                  <a:pt x="130" y="177"/>
                  <a:pt x="205" y="165"/>
                  <a:pt x="277" y="158"/>
                </a:cubicBezTo>
                <a:cubicBezTo>
                  <a:pt x="349" y="141"/>
                  <a:pt x="500" y="166"/>
                  <a:pt x="500" y="166"/>
                </a:cubicBezTo>
                <a:cubicBezTo>
                  <a:pt x="559" y="178"/>
                  <a:pt x="548" y="193"/>
                  <a:pt x="592" y="220"/>
                </a:cubicBezTo>
                <a:cubicBezTo>
                  <a:pt x="606" y="228"/>
                  <a:pt x="623" y="230"/>
                  <a:pt x="638" y="235"/>
                </a:cubicBezTo>
                <a:cubicBezTo>
                  <a:pt x="653" y="234"/>
                  <a:pt x="730" y="242"/>
                  <a:pt x="754" y="212"/>
                </a:cubicBezTo>
                <a:cubicBezTo>
                  <a:pt x="759" y="206"/>
                  <a:pt x="757" y="196"/>
                  <a:pt x="761" y="189"/>
                </a:cubicBezTo>
                <a:cubicBezTo>
                  <a:pt x="765" y="181"/>
                  <a:pt x="771" y="173"/>
                  <a:pt x="777" y="166"/>
                </a:cubicBezTo>
                <a:cubicBezTo>
                  <a:pt x="796" y="144"/>
                  <a:pt x="846" y="112"/>
                  <a:pt x="846" y="112"/>
                </a:cubicBezTo>
                <a:cubicBezTo>
                  <a:pt x="871" y="74"/>
                  <a:pt x="912" y="58"/>
                  <a:pt x="954" y="43"/>
                </a:cubicBezTo>
                <a:cubicBezTo>
                  <a:pt x="994" y="0"/>
                  <a:pt x="1057" y="26"/>
                  <a:pt x="1107" y="43"/>
                </a:cubicBezTo>
                <a:cubicBezTo>
                  <a:pt x="1140" y="90"/>
                  <a:pt x="1184" y="126"/>
                  <a:pt x="1215" y="174"/>
                </a:cubicBezTo>
                <a:cubicBezTo>
                  <a:pt x="1218" y="184"/>
                  <a:pt x="1218" y="195"/>
                  <a:pt x="1223" y="204"/>
                </a:cubicBezTo>
                <a:cubicBezTo>
                  <a:pt x="1226" y="211"/>
                  <a:pt x="1235" y="213"/>
                  <a:pt x="1238" y="220"/>
                </a:cubicBezTo>
                <a:cubicBezTo>
                  <a:pt x="1255" y="254"/>
                  <a:pt x="1255" y="288"/>
                  <a:pt x="1277" y="320"/>
                </a:cubicBezTo>
                <a:cubicBezTo>
                  <a:pt x="1294" y="394"/>
                  <a:pt x="1298" y="469"/>
                  <a:pt x="1315" y="543"/>
                </a:cubicBezTo>
                <a:cubicBezTo>
                  <a:pt x="1341" y="653"/>
                  <a:pt x="1345" y="751"/>
                  <a:pt x="1477" y="781"/>
                </a:cubicBezTo>
                <a:cubicBezTo>
                  <a:pt x="1554" y="822"/>
                  <a:pt x="1770" y="773"/>
                  <a:pt x="1869" y="766"/>
                </a:cubicBezTo>
                <a:cubicBezTo>
                  <a:pt x="1969" y="771"/>
                  <a:pt x="2078" y="768"/>
                  <a:pt x="2177" y="789"/>
                </a:cubicBezTo>
                <a:cubicBezTo>
                  <a:pt x="2229" y="800"/>
                  <a:pt x="2279" y="822"/>
                  <a:pt x="2331" y="835"/>
                </a:cubicBezTo>
                <a:cubicBezTo>
                  <a:pt x="2348" y="861"/>
                  <a:pt x="2400" y="897"/>
                  <a:pt x="2400" y="897"/>
                </a:cubicBezTo>
                <a:cubicBezTo>
                  <a:pt x="2422" y="929"/>
                  <a:pt x="2446" y="961"/>
                  <a:pt x="2461" y="997"/>
                </a:cubicBezTo>
                <a:cubicBezTo>
                  <a:pt x="2467" y="1012"/>
                  <a:pt x="2477" y="1043"/>
                  <a:pt x="2477" y="1043"/>
                </a:cubicBezTo>
                <a:cubicBezTo>
                  <a:pt x="2467" y="1135"/>
                  <a:pt x="2451" y="1198"/>
                  <a:pt x="2354" y="1227"/>
                </a:cubicBezTo>
                <a:cubicBezTo>
                  <a:pt x="2319" y="1262"/>
                  <a:pt x="2361" y="1224"/>
                  <a:pt x="2308" y="1258"/>
                </a:cubicBezTo>
                <a:cubicBezTo>
                  <a:pt x="2266" y="1286"/>
                  <a:pt x="2323" y="1261"/>
                  <a:pt x="2269" y="1289"/>
                </a:cubicBezTo>
                <a:cubicBezTo>
                  <a:pt x="2237" y="1306"/>
                  <a:pt x="2204" y="1316"/>
                  <a:pt x="2169" y="1327"/>
                </a:cubicBezTo>
                <a:cubicBezTo>
                  <a:pt x="2098" y="1376"/>
                  <a:pt x="2005" y="1369"/>
                  <a:pt x="1923" y="1373"/>
                </a:cubicBezTo>
                <a:cubicBezTo>
                  <a:pt x="1882" y="1387"/>
                  <a:pt x="1841" y="1398"/>
                  <a:pt x="1800" y="1412"/>
                </a:cubicBezTo>
                <a:cubicBezTo>
                  <a:pt x="1795" y="1417"/>
                  <a:pt x="1790" y="1423"/>
                  <a:pt x="1784" y="1427"/>
                </a:cubicBezTo>
                <a:cubicBezTo>
                  <a:pt x="1777" y="1431"/>
                  <a:pt x="1767" y="1430"/>
                  <a:pt x="1761" y="1435"/>
                </a:cubicBezTo>
                <a:cubicBezTo>
                  <a:pt x="1744" y="1448"/>
                  <a:pt x="1715" y="1481"/>
                  <a:pt x="1715" y="1481"/>
                </a:cubicBezTo>
                <a:cubicBezTo>
                  <a:pt x="1697" y="1540"/>
                  <a:pt x="1722" y="1472"/>
                  <a:pt x="1692" y="1520"/>
                </a:cubicBezTo>
                <a:cubicBezTo>
                  <a:pt x="1681" y="1538"/>
                  <a:pt x="1685" y="1559"/>
                  <a:pt x="1669" y="1573"/>
                </a:cubicBezTo>
              </a:path>
            </a:pathLst>
          </a:custGeom>
          <a:noFill/>
          <a:ln w="34920">
            <a:solidFill>
              <a:srgbClr val="00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67"/>
          <p:cNvSpPr/>
          <p:nvPr/>
        </p:nvSpPr>
        <p:spPr>
          <a:xfrm>
            <a:off x="647640" y="6035760"/>
            <a:ext cx="2278080" cy="137304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1373040"/>
              <a:gd name="textAreaBottom" fmla="*/ 1373400 h 1373040"/>
            </a:gdLst>
            <a:ahLst/>
            <a:rect l="textAreaLeft" t="textAreaTop" r="textAreaRight" b="textAreaBottom"/>
            <a:pathLst>
              <a:path w="1331" h="784">
                <a:moveTo>
                  <a:pt x="0" y="300"/>
                </a:moveTo>
                <a:cubicBezTo>
                  <a:pt x="33" y="303"/>
                  <a:pt x="67" y="308"/>
                  <a:pt x="100" y="308"/>
                </a:cubicBezTo>
                <a:cubicBezTo>
                  <a:pt x="151" y="308"/>
                  <a:pt x="203" y="304"/>
                  <a:pt x="254" y="300"/>
                </a:cubicBezTo>
                <a:cubicBezTo>
                  <a:pt x="342" y="292"/>
                  <a:pt x="471" y="206"/>
                  <a:pt x="523" y="138"/>
                </a:cubicBezTo>
                <a:cubicBezTo>
                  <a:pt x="544" y="111"/>
                  <a:pt x="556" y="88"/>
                  <a:pt x="584" y="69"/>
                </a:cubicBezTo>
                <a:cubicBezTo>
                  <a:pt x="611" y="31"/>
                  <a:pt x="641" y="15"/>
                  <a:pt x="684" y="0"/>
                </a:cubicBezTo>
                <a:cubicBezTo>
                  <a:pt x="756" y="5"/>
                  <a:pt x="786" y="8"/>
                  <a:pt x="846" y="23"/>
                </a:cubicBezTo>
                <a:cubicBezTo>
                  <a:pt x="869" y="29"/>
                  <a:pt x="915" y="38"/>
                  <a:pt x="915" y="38"/>
                </a:cubicBezTo>
                <a:cubicBezTo>
                  <a:pt x="954" y="77"/>
                  <a:pt x="959" y="126"/>
                  <a:pt x="977" y="177"/>
                </a:cubicBezTo>
                <a:cubicBezTo>
                  <a:pt x="993" y="223"/>
                  <a:pt x="1041" y="233"/>
                  <a:pt x="1077" y="254"/>
                </a:cubicBezTo>
                <a:cubicBezTo>
                  <a:pt x="1141" y="290"/>
                  <a:pt x="1073" y="268"/>
                  <a:pt x="1138" y="285"/>
                </a:cubicBezTo>
                <a:cubicBezTo>
                  <a:pt x="1195" y="322"/>
                  <a:pt x="1123" y="278"/>
                  <a:pt x="1192" y="308"/>
                </a:cubicBezTo>
                <a:cubicBezTo>
                  <a:pt x="1217" y="319"/>
                  <a:pt x="1228" y="337"/>
                  <a:pt x="1254" y="346"/>
                </a:cubicBezTo>
                <a:cubicBezTo>
                  <a:pt x="1286" y="379"/>
                  <a:pt x="1316" y="410"/>
                  <a:pt x="1331" y="454"/>
                </a:cubicBezTo>
                <a:cubicBezTo>
                  <a:pt x="1325" y="472"/>
                  <a:pt x="1325" y="492"/>
                  <a:pt x="1315" y="508"/>
                </a:cubicBezTo>
                <a:cubicBezTo>
                  <a:pt x="1306" y="521"/>
                  <a:pt x="1274" y="530"/>
                  <a:pt x="1261" y="531"/>
                </a:cubicBezTo>
                <a:cubicBezTo>
                  <a:pt x="1210" y="535"/>
                  <a:pt x="1158" y="536"/>
                  <a:pt x="1107" y="538"/>
                </a:cubicBezTo>
                <a:cubicBezTo>
                  <a:pt x="1049" y="558"/>
                  <a:pt x="976" y="562"/>
                  <a:pt x="923" y="592"/>
                </a:cubicBezTo>
                <a:cubicBezTo>
                  <a:pt x="889" y="611"/>
                  <a:pt x="867" y="634"/>
                  <a:pt x="831" y="646"/>
                </a:cubicBezTo>
                <a:cubicBezTo>
                  <a:pt x="802" y="673"/>
                  <a:pt x="779" y="701"/>
                  <a:pt x="754" y="731"/>
                </a:cubicBezTo>
                <a:cubicBezTo>
                  <a:pt x="739" y="750"/>
                  <a:pt x="723" y="758"/>
                  <a:pt x="723" y="784"/>
                </a:cubicBezTo>
              </a:path>
            </a:pathLst>
          </a:custGeom>
          <a:noFill/>
          <a:ln w="44280">
            <a:solidFill>
              <a:srgbClr val="00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8"/>
          <p:cNvSpPr/>
          <p:nvPr/>
        </p:nvSpPr>
        <p:spPr>
          <a:xfrm>
            <a:off x="5768640" y="4392720"/>
            <a:ext cx="1841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OZ-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9"/>
          <p:cNvSpPr/>
          <p:nvPr/>
        </p:nvSpPr>
        <p:spPr>
          <a:xfrm>
            <a:off x="3954600" y="4959360"/>
            <a:ext cx="539640" cy="485640"/>
          </a:xfrm>
          <a:custGeom>
            <a:avLst/>
            <a:gdLst>
              <a:gd name="textAreaLeft" fmla="*/ 0 w 539640"/>
              <a:gd name="textAreaRight" fmla="*/ 540000 w 5396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315" h="277">
                <a:moveTo>
                  <a:pt x="0" y="77"/>
                </a:moveTo>
                <a:lnTo>
                  <a:pt x="215" y="0"/>
                </a:lnTo>
                <a:lnTo>
                  <a:pt x="246" y="100"/>
                </a:lnTo>
                <a:lnTo>
                  <a:pt x="315" y="184"/>
                </a:lnTo>
                <a:lnTo>
                  <a:pt x="84" y="277"/>
                </a:lnTo>
                <a:lnTo>
                  <a:pt x="0" y="77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0"/>
          <p:cNvSpPr/>
          <p:nvPr/>
        </p:nvSpPr>
        <p:spPr>
          <a:xfrm>
            <a:off x="4232160" y="5551560"/>
            <a:ext cx="540000" cy="484200"/>
          </a:xfrm>
          <a:custGeom>
            <a:avLst/>
            <a:gdLst>
              <a:gd name="textAreaLeft" fmla="*/ 0 w 540000"/>
              <a:gd name="textAreaRight" fmla="*/ 540360 w 540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15" h="277">
                <a:moveTo>
                  <a:pt x="0" y="77"/>
                </a:moveTo>
                <a:lnTo>
                  <a:pt x="215" y="0"/>
                </a:lnTo>
                <a:lnTo>
                  <a:pt x="246" y="100"/>
                </a:lnTo>
                <a:lnTo>
                  <a:pt x="315" y="184"/>
                </a:lnTo>
                <a:lnTo>
                  <a:pt x="84" y="277"/>
                </a:lnTo>
                <a:lnTo>
                  <a:pt x="0" y="77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71"/>
          <p:cNvSpPr/>
          <p:nvPr/>
        </p:nvSpPr>
        <p:spPr>
          <a:xfrm>
            <a:off x="4111560" y="5214960"/>
            <a:ext cx="671400" cy="457200"/>
          </a:xfrm>
          <a:custGeom>
            <a:avLst/>
            <a:gdLst>
              <a:gd name="textAreaLeft" fmla="*/ 0 w 671400"/>
              <a:gd name="textAreaRight" fmla="*/ 671760 w 671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92" h="261">
                <a:moveTo>
                  <a:pt x="0" y="131"/>
                </a:moveTo>
                <a:lnTo>
                  <a:pt x="69" y="261"/>
                </a:lnTo>
                <a:lnTo>
                  <a:pt x="292" y="192"/>
                </a:lnTo>
                <a:lnTo>
                  <a:pt x="392" y="138"/>
                </a:lnTo>
                <a:lnTo>
                  <a:pt x="300" y="0"/>
                </a:lnTo>
                <a:lnTo>
                  <a:pt x="223" y="38"/>
                </a:lnTo>
                <a:lnTo>
                  <a:pt x="0" y="131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2"/>
          <p:cNvSpPr/>
          <p:nvPr/>
        </p:nvSpPr>
        <p:spPr>
          <a:xfrm>
            <a:off x="3360600" y="5214960"/>
            <a:ext cx="671760" cy="457200"/>
          </a:xfrm>
          <a:custGeom>
            <a:avLst/>
            <a:gdLst>
              <a:gd name="textAreaLeft" fmla="*/ 0 w 671760"/>
              <a:gd name="textAreaRight" fmla="*/ 672120 w 67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92" h="261">
                <a:moveTo>
                  <a:pt x="0" y="131"/>
                </a:moveTo>
                <a:lnTo>
                  <a:pt x="69" y="261"/>
                </a:lnTo>
                <a:lnTo>
                  <a:pt x="292" y="192"/>
                </a:lnTo>
                <a:lnTo>
                  <a:pt x="392" y="138"/>
                </a:lnTo>
                <a:lnTo>
                  <a:pt x="300" y="0"/>
                </a:lnTo>
                <a:lnTo>
                  <a:pt x="223" y="38"/>
                </a:lnTo>
                <a:lnTo>
                  <a:pt x="0" y="131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3"/>
          <p:cNvSpPr/>
          <p:nvPr/>
        </p:nvSpPr>
        <p:spPr>
          <a:xfrm>
            <a:off x="3465360" y="5492880"/>
            <a:ext cx="671760" cy="457200"/>
          </a:xfrm>
          <a:custGeom>
            <a:avLst/>
            <a:gdLst>
              <a:gd name="textAreaLeft" fmla="*/ 0 w 671760"/>
              <a:gd name="textAreaRight" fmla="*/ 672120 w 67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92" h="261">
                <a:moveTo>
                  <a:pt x="0" y="102"/>
                </a:moveTo>
                <a:lnTo>
                  <a:pt x="69" y="261"/>
                </a:lnTo>
                <a:lnTo>
                  <a:pt x="292" y="192"/>
                </a:lnTo>
                <a:lnTo>
                  <a:pt x="392" y="138"/>
                </a:lnTo>
                <a:lnTo>
                  <a:pt x="300" y="0"/>
                </a:lnTo>
                <a:lnTo>
                  <a:pt x="223" y="38"/>
                </a:lnTo>
                <a:lnTo>
                  <a:pt x="0" y="102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4"/>
          <p:cNvSpPr/>
          <p:nvPr/>
        </p:nvSpPr>
        <p:spPr>
          <a:xfrm>
            <a:off x="5767560" y="4813200"/>
            <a:ext cx="22456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lasting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5"/>
          <p:cNvSpPr/>
          <p:nvPr/>
        </p:nvSpPr>
        <p:spPr>
          <a:xfrm>
            <a:off x="2979720" y="666576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76"/>
          <p:cNvSpPr/>
          <p:nvPr/>
        </p:nvSpPr>
        <p:spPr>
          <a:xfrm>
            <a:off x="2901960" y="650556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7"/>
          <p:cNvSpPr/>
          <p:nvPr/>
        </p:nvSpPr>
        <p:spPr>
          <a:xfrm>
            <a:off x="2822400" y="634212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8"/>
          <p:cNvSpPr/>
          <p:nvPr/>
        </p:nvSpPr>
        <p:spPr>
          <a:xfrm>
            <a:off x="2743200" y="6181560"/>
            <a:ext cx="824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79"/>
          <p:cNvSpPr/>
          <p:nvPr/>
        </p:nvSpPr>
        <p:spPr>
          <a:xfrm>
            <a:off x="2676600" y="5992920"/>
            <a:ext cx="8244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0"/>
          <p:cNvSpPr/>
          <p:nvPr/>
        </p:nvSpPr>
        <p:spPr>
          <a:xfrm>
            <a:off x="2322360" y="5010120"/>
            <a:ext cx="828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1"/>
          <p:cNvSpPr/>
          <p:nvPr/>
        </p:nvSpPr>
        <p:spPr>
          <a:xfrm>
            <a:off x="2214720" y="5076720"/>
            <a:ext cx="8388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2"/>
          <p:cNvSpPr/>
          <p:nvPr/>
        </p:nvSpPr>
        <p:spPr>
          <a:xfrm>
            <a:off x="2098800" y="515772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3"/>
          <p:cNvSpPr/>
          <p:nvPr/>
        </p:nvSpPr>
        <p:spPr>
          <a:xfrm>
            <a:off x="1979640" y="522612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4"/>
          <p:cNvSpPr/>
          <p:nvPr/>
        </p:nvSpPr>
        <p:spPr>
          <a:xfrm>
            <a:off x="3087720" y="5008680"/>
            <a:ext cx="8100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5"/>
          <p:cNvSpPr/>
          <p:nvPr/>
        </p:nvSpPr>
        <p:spPr>
          <a:xfrm>
            <a:off x="3138480" y="5143680"/>
            <a:ext cx="8244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6"/>
          <p:cNvSpPr/>
          <p:nvPr/>
        </p:nvSpPr>
        <p:spPr>
          <a:xfrm>
            <a:off x="3191040" y="5265720"/>
            <a:ext cx="8388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7"/>
          <p:cNvSpPr/>
          <p:nvPr/>
        </p:nvSpPr>
        <p:spPr>
          <a:xfrm>
            <a:off x="2506680" y="4297320"/>
            <a:ext cx="824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88"/>
          <p:cNvSpPr/>
          <p:nvPr/>
        </p:nvSpPr>
        <p:spPr>
          <a:xfrm>
            <a:off x="2374920" y="439092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9"/>
          <p:cNvSpPr/>
          <p:nvPr/>
        </p:nvSpPr>
        <p:spPr>
          <a:xfrm>
            <a:off x="5775120" y="5232240"/>
            <a:ext cx="2411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volkings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0"/>
          <p:cNvSpPr/>
          <p:nvPr/>
        </p:nvSpPr>
        <p:spPr>
          <a:xfrm>
            <a:off x="3879720" y="4619520"/>
            <a:ext cx="16380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1"/>
          <p:cNvSpPr/>
          <p:nvPr/>
        </p:nvSpPr>
        <p:spPr>
          <a:xfrm>
            <a:off x="4154400" y="4565520"/>
            <a:ext cx="16524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2"/>
          <p:cNvSpPr/>
          <p:nvPr/>
        </p:nvSpPr>
        <p:spPr>
          <a:xfrm>
            <a:off x="4378320" y="4713120"/>
            <a:ext cx="165240" cy="1666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3"/>
          <p:cNvSpPr/>
          <p:nvPr/>
        </p:nvSpPr>
        <p:spPr>
          <a:xfrm>
            <a:off x="4484520" y="4956120"/>
            <a:ext cx="16524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4"/>
          <p:cNvSpPr/>
          <p:nvPr/>
        </p:nvSpPr>
        <p:spPr>
          <a:xfrm>
            <a:off x="3681360" y="6153120"/>
            <a:ext cx="16524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5"/>
          <p:cNvSpPr/>
          <p:nvPr/>
        </p:nvSpPr>
        <p:spPr>
          <a:xfrm>
            <a:off x="3773520" y="6394320"/>
            <a:ext cx="16524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6"/>
          <p:cNvSpPr/>
          <p:nvPr/>
        </p:nvSpPr>
        <p:spPr>
          <a:xfrm>
            <a:off x="3905280" y="6624720"/>
            <a:ext cx="165240" cy="1681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7"/>
          <p:cNvSpPr/>
          <p:nvPr/>
        </p:nvSpPr>
        <p:spPr>
          <a:xfrm>
            <a:off x="1311120" y="5519880"/>
            <a:ext cx="165240" cy="1681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8"/>
          <p:cNvSpPr/>
          <p:nvPr/>
        </p:nvSpPr>
        <p:spPr>
          <a:xfrm>
            <a:off x="1509840" y="5384880"/>
            <a:ext cx="164880" cy="1681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9"/>
          <p:cNvSpPr/>
          <p:nvPr/>
        </p:nvSpPr>
        <p:spPr>
          <a:xfrm>
            <a:off x="1731960" y="5264280"/>
            <a:ext cx="165240" cy="1681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0"/>
          <p:cNvSpPr/>
          <p:nvPr/>
        </p:nvSpPr>
        <p:spPr>
          <a:xfrm>
            <a:off x="5756040" y="5653080"/>
            <a:ext cx="27133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numenten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01"/>
          <p:cNvSpPr/>
          <p:nvPr/>
        </p:nvSpPr>
        <p:spPr>
          <a:xfrm>
            <a:off x="4586400" y="3473280"/>
            <a:ext cx="328680" cy="336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2"/>
          <p:cNvSpPr/>
          <p:nvPr/>
        </p:nvSpPr>
        <p:spPr>
          <a:xfrm>
            <a:off x="3189240" y="6246720"/>
            <a:ext cx="328680" cy="3351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3"/>
          <p:cNvSpPr/>
          <p:nvPr/>
        </p:nvSpPr>
        <p:spPr>
          <a:xfrm>
            <a:off x="2776680" y="4397400"/>
            <a:ext cx="328320" cy="336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4"/>
          <p:cNvSpPr/>
          <p:nvPr/>
        </p:nvSpPr>
        <p:spPr>
          <a:xfrm>
            <a:off x="5754240" y="6073920"/>
            <a:ext cx="2015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oreca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5"/>
          <p:cNvSpPr/>
          <p:nvPr/>
        </p:nvSpPr>
        <p:spPr>
          <a:xfrm>
            <a:off x="2790720" y="3987720"/>
            <a:ext cx="163440" cy="168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6"/>
          <p:cNvSpPr/>
          <p:nvPr/>
        </p:nvSpPr>
        <p:spPr>
          <a:xfrm>
            <a:off x="2987640" y="3919680"/>
            <a:ext cx="16200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7"/>
          <p:cNvSpPr/>
          <p:nvPr/>
        </p:nvSpPr>
        <p:spPr>
          <a:xfrm>
            <a:off x="3197160" y="3851280"/>
            <a:ext cx="1652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8"/>
          <p:cNvSpPr/>
          <p:nvPr/>
        </p:nvSpPr>
        <p:spPr>
          <a:xfrm>
            <a:off x="3409920" y="3784680"/>
            <a:ext cx="1634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9"/>
          <p:cNvSpPr/>
          <p:nvPr/>
        </p:nvSpPr>
        <p:spPr>
          <a:xfrm>
            <a:off x="3355920" y="4579920"/>
            <a:ext cx="1652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0"/>
          <p:cNvSpPr/>
          <p:nvPr/>
        </p:nvSpPr>
        <p:spPr>
          <a:xfrm>
            <a:off x="3552840" y="4511520"/>
            <a:ext cx="165240" cy="168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1"/>
          <p:cNvSpPr/>
          <p:nvPr/>
        </p:nvSpPr>
        <p:spPr>
          <a:xfrm>
            <a:off x="3751200" y="4430880"/>
            <a:ext cx="1652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2"/>
          <p:cNvSpPr/>
          <p:nvPr/>
        </p:nvSpPr>
        <p:spPr>
          <a:xfrm>
            <a:off x="3235320" y="5400720"/>
            <a:ext cx="1652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3"/>
          <p:cNvSpPr/>
          <p:nvPr/>
        </p:nvSpPr>
        <p:spPr>
          <a:xfrm>
            <a:off x="3330720" y="5602320"/>
            <a:ext cx="16488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5771880" y="6492960"/>
            <a:ext cx="24055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wakings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15"/>
          <p:cNvSpPr/>
          <p:nvPr/>
        </p:nvSpPr>
        <p:spPr>
          <a:xfrm rot="16345200">
            <a:off x="3899520" y="3567240"/>
            <a:ext cx="608040" cy="1216080"/>
          </a:xfrm>
          <a:prstGeom prst="flowChartMerge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6"/>
          <p:cNvSpPr/>
          <p:nvPr/>
        </p:nvSpPr>
        <p:spPr>
          <a:xfrm rot="6464400">
            <a:off x="2685600" y="3801960"/>
            <a:ext cx="504720" cy="987480"/>
          </a:xfrm>
          <a:prstGeom prst="flowChartMerge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17"/>
          <p:cNvSpPr/>
          <p:nvPr/>
        </p:nvSpPr>
        <p:spPr>
          <a:xfrm rot="8374200">
            <a:off x="2763360" y="4895640"/>
            <a:ext cx="414360" cy="561960"/>
          </a:xfrm>
          <a:prstGeom prst="flowChartMerge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8"/>
          <p:cNvSpPr/>
          <p:nvPr/>
        </p:nvSpPr>
        <p:spPr>
          <a:xfrm>
            <a:off x="5735880" y="6913440"/>
            <a:ext cx="12945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nzovo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7"/>
          <p:cNvSpPr/>
          <p:nvPr/>
        </p:nvSpPr>
        <p:spPr>
          <a:xfrm>
            <a:off x="5775480" y="1924200"/>
            <a:ext cx="19652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Kadastrale ka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500"/>
                            </p:stCondLst>
                            <p:childTnLst>
                              <p:par>
                                <p:cTn id="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500"/>
                            </p:stCondLst>
                            <p:childTnLst>
                              <p:par>
                                <p:cTn id="2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7500"/>
                            </p:stCondLst>
                            <p:childTnLst>
                              <p:par>
                                <p:cTn id="32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8500"/>
                            </p:stCondLst>
                            <p:childTnLst>
                              <p:par>
                                <p:cTn id="3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9000"/>
                            </p:stCondLst>
                            <p:childTnLst>
                              <p:par>
                                <p:cTn id="3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9500"/>
                            </p:stCondLst>
                            <p:childTnLst>
                              <p:par>
                                <p:cTn id="3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8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2500"/>
                            </p:stCondLst>
                            <p:childTnLst>
                              <p:par>
                                <p:cTn id="38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3500"/>
                            </p:stCondLst>
                            <p:childTnLst>
                              <p:par>
                                <p:cTn id="4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4500"/>
                            </p:stCondLst>
                            <p:childTnLst>
                              <p:par>
                                <p:cTn id="4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486160" y="1079640"/>
            <a:ext cx="7762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NEN3610-fam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663560" y="1995480"/>
            <a:ext cx="9025200" cy="5567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486160" y="1079640"/>
            <a:ext cx="7762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Harmonisatie StUF en NEN3610 </a:t>
            </a:r>
            <a:br>
              <a:rPr sz="3200"/>
            </a:b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nut en noodza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914400" y="2424240"/>
          <a:ext cx="9104400" cy="4873320"/>
        </p:xfrm>
        <a:graphic>
          <a:graphicData uri="http://schemas.openxmlformats.org/drawingml/2006/table">
            <a:tbl>
              <a:tblPr/>
              <a:tblGrid>
                <a:gridCol w="4554360"/>
                <a:gridCol w="4550040"/>
              </a:tblGrid>
              <a:tr h="438120">
                <a:tc>
                  <a:txBody>
                    <a:bodyPr lIns="106920" rIns="106920" tIns="194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OVERHE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06920" rIns="106920" tIns="194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OMGE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1136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Samengestelde dienstverlening aan burgers en bedrijven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WAB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Mensen verwachten h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Ze zijn inmiddels gewen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an grafische en multimediale presentatievormen (bijv. Googlemaps, Funda, Jaap, Marktplaats, TomTom etc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4272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Meer interoperabilite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Verzoek van Forum en Colleg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tandaardisat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Softwareleveranciers willen standaa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IS/GEO systemen en gemeentelijke backoffice systeme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8112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Stelsel van basisregist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Van individuele basisregistrat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aar een stelsel met dezelfde standaarden en mogelijkheden voor gebruik van generieke en herbruikbare oplossing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Met de huidige techniek kan h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et moderne ICT is de scheiding tussen grafische, geo en adminstratieve en andersoortige informatie overbodig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0" y="866880"/>
            <a:ext cx="10688760" cy="66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2486160" y="0"/>
            <a:ext cx="98596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ositionering stel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42840" y="2509920"/>
            <a:ext cx="9282240" cy="151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417600" y="1260360"/>
            <a:ext cx="8555040" cy="6302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8034480" y="3194280"/>
            <a:ext cx="190332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MGeo 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8034480" y="4297320"/>
            <a:ext cx="190332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MBOD 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8034480" y="1698120"/>
            <a:ext cx="190332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P10NL 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4129200" y="2026080"/>
            <a:ext cx="1951920" cy="36252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MKAD 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5224320" y="5143680"/>
            <a:ext cx="172116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UF LV-B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3129120" y="3974760"/>
            <a:ext cx="1473120" cy="36252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UF-W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750960" y="5349960"/>
            <a:ext cx="172224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onderzo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679480" y="1117080"/>
            <a:ext cx="7777080" cy="8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Hoe kan de OOV gegevens uit de basisregistraties ontsluiten?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5" name="Picture 4" descr="Image1"/>
          <p:cNvPicPr/>
          <p:nvPr/>
        </p:nvPicPr>
        <p:blipFill>
          <a:blip r:embed="rId1"/>
          <a:stretch/>
        </p:blipFill>
        <p:spPr>
          <a:xfrm>
            <a:off x="3184560" y="2197080"/>
            <a:ext cx="6769080" cy="508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3:20:23Z</dcterms:created>
  <dc:creator>mreuvers</dc:creator>
  <dc:description/>
  <dc:language>en-US</dc:language>
  <cp:lastModifiedBy>Peter</cp:lastModifiedBy>
  <dcterms:modified xsi:type="dcterms:W3CDTF">2010-02-17T07:11:15Z</dcterms:modified>
  <cp:revision>14</cp:revision>
  <dc:subject/>
  <dc:title>Harmonisatie gegevens en berichtstandaarden StUF-RSGB en NEN3610 </dc:title>
</cp:coreProperties>
</file>